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845-891B-4A43-958F-83C2554E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0AE4-8970-4496-ADF7-D1D2F6FA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CEE-F152-45F6-BA38-3250ADD9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179-8E15-4629-988C-74EBB65E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9A0-EFD3-4A1B-84FE-54015403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16B-5DC2-4ED2-B553-A6D0A671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B5E-2085-4A9C-B62C-BF7CDD18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5C7-C45A-44EA-BB1F-B26615B5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639-E1F3-4C06-9700-609144AB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BAB-C92C-45EE-8BA1-20D07EBA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40E-DD72-4995-8464-8E244EFE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1D6-37B1-490A-B5D8-1D424017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628C8CF4-8ED8-4EF0-8915-40BF1FA59C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97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ZIONE DEGLI IMMIGRATI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PROVINCIA DI RIMIN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4220640"/>
            <a:ext cx="770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confronto empir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ifica delle differen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 6 gruppi nazionali e macro-naz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59280" y="1844640"/>
            <a:ext cx="2535120" cy="2328480"/>
            <a:chOff x="3059280" y="1844640"/>
            <a:chExt cx="2535120" cy="2328480"/>
          </a:xfrm>
        </p:grpSpPr>
        <p:sp>
          <p:nvSpPr>
            <p:cNvPr id="44" name="Puzzle3"/>
            <p:cNvSpPr/>
            <p:nvPr/>
          </p:nvSpPr>
          <p:spPr>
            <a:xfrm>
              <a:off x="4293720" y="1844640"/>
              <a:ext cx="996480" cy="1237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Puzzle2"/>
            <p:cNvSpPr/>
            <p:nvPr/>
          </p:nvSpPr>
          <p:spPr>
            <a:xfrm>
              <a:off x="4003920" y="2746080"/>
              <a:ext cx="1590480" cy="11271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Puzzle4"/>
            <p:cNvSpPr/>
            <p:nvPr/>
          </p:nvSpPr>
          <p:spPr>
            <a:xfrm>
              <a:off x="3388320" y="2732040"/>
              <a:ext cx="958680" cy="1441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Puzzle1"/>
            <p:cNvSpPr/>
            <p:nvPr/>
          </p:nvSpPr>
          <p:spPr>
            <a:xfrm>
              <a:off x="3059280" y="2219040"/>
              <a:ext cx="1610280" cy="8589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900000" y="5950080"/>
            <a:ext cx="7128000" cy="647640"/>
            <a:chOff x="900000" y="5950080"/>
            <a:chExt cx="7128000" cy="647640"/>
          </a:xfrm>
        </p:grpSpPr>
        <p:sp>
          <p:nvSpPr>
            <p:cNvPr id="49" name=""/>
            <p:cNvSpPr/>
            <p:nvPr/>
          </p:nvSpPr>
          <p:spPr>
            <a:xfrm>
              <a:off x="900000" y="5950080"/>
              <a:ext cx="712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io Glauco Galli, gennaio 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 conto dell’ASSOCIAZIONE ARCOBAL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16000" y="5950080"/>
              <a:ext cx="676908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 MOTIVI DI EMIGRAZIONE (risposta multipl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660240"/>
          <a:ext cx="8713800" cy="613260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0800"/>
                <a:gridCol w="1454400"/>
                <a:gridCol w="1450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50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liorare la situazione econom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liorare la situazione economica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liorare la situazione econom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liorare la situazione economica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care lavoro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liorare la situazione economica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650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e un futuro migliore ai propri figl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care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e un futuro migliore ai propri fig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care lavoro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liorare la situazione economica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care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</a:tr>
              <a:tr h="650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care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e un futuro migliore ai propri figli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care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re il mo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e un futuro migliore ai propri figli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e un futuro migliore ai propri figli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0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ongiungersi con i familia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re il mo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politici, razziali, religiosi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trimonio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di st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are un mestiere, una profess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673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di st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ongiungersi con i familia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are un mestiere, una profess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politici, razziali, religiosi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ongiungersi con i familia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re il mo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50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politici, razziali, religiosi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di st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ongiungersi con i familia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e un futuro migliore ai propri fig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politici, razziali, religiosi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ongiungersi con i familia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are un mestiere, una professione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politici, razziali, religiosi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di studio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ongiungersi con i familia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are un mestiere, una profess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di st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re il mondo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are un mestiere, una profess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re il mo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rare un mestiere, una profess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scere il mon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politici, razziali, religiosi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uggire alla guerra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uggire alla guer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uggire alla guer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i di stud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uggire alla guer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uggire alla guer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fuggire alla guer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4 L’ESPERIENZA MIGRATO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619280" y="907920"/>
          <a:ext cx="547200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907920"/>
                    <a:ext cx="547200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3203640" y="765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IA PRIMA SC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87280" y="3860640"/>
          <a:ext cx="5832720" cy="299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860640"/>
                    <a:ext cx="583272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3059280" y="3716280"/>
            <a:ext cx="33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TRE ESPERIENZE MIGRAT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C34-0EC7-41E6-945E-17D71FDF60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 LA MIGRAZIONE NEL TERRITORIO RIMINE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039680" y="2708280"/>
          <a:ext cx="7062840" cy="38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2708280"/>
                    <a:ext cx="706284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50920" y="1052640"/>
          <a:ext cx="8713800" cy="1541160"/>
        </p:xfrm>
        <a:graphic>
          <a:graphicData uri="http://schemas.openxmlformats.org/drawingml/2006/table">
            <a:tbl>
              <a:tblPr/>
              <a:tblGrid>
                <a:gridCol w="2436840"/>
                <a:gridCol w="6276960"/>
              </a:tblGrid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O SUB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 non prima scelta, ma Rimini primo luogo di migr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O TRANS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 non prima scelta, ma Rimini luogo di migrazione dopo esperienze altr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O DIRE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 prima scelta e Rimini primo luogo di migr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ETTO CONSAPEV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 prima scelta, ma Rimini luogo di migrazione dopo esperienze altr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CISI SUL PROGE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cisi su Italia prima scelta, al di là delle esperienze precedenti di migr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C2683828-1C1D-4A05-8820-20A9C65DCA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260280"/>
            <a:ext cx="842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ea di analisi num. 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CONDIZIONE ATTUALE: ABITAZIONE E LAVORO (pp. 13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413000"/>
            <a:ext cx="842472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1 PERMANENZA IN ITALIA E PRESENZA A RIMIN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tempo di permanenza in Italia, presenza nel territorio rimines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2 IN QUALE TIPO DI ABITAZIONE VIVE ATTU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3 COME HA TROVATO LA SUA ATTUALE ABI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4 CONDIZIONE PROFESSIONALE ATTUAL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dizione occupazionale, dettaglio su situazione e settore occupazionale, durata dell’attuale lavoro, tipologia di contratto per lavoratori dipende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5 COME HA TROVATO IL SUO ATTUALE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6 MOBILITA’ TRA SETTORI LAVORATIV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numero di settori in cui si è lavora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7 SETTORI DI IMP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8 FORMAZIONE SVOL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frequenza, tipologia e durata dei corsi frequentati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2109846E-30CF-4869-B9FB-8DDD14DC17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PERMANENZA IN ITALIA E PRESENZA A RIMI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324000" y="1052640"/>
          <a:ext cx="504036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052640"/>
                    <a:ext cx="50403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40360" y="1052640"/>
          <a:ext cx="5018040" cy="32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1052640"/>
                    <a:ext cx="501804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50920" y="4797360"/>
          <a:ext cx="8569080" cy="1643040"/>
        </p:xfrm>
        <a:graphic>
          <a:graphicData uri="http://schemas.openxmlformats.org/drawingml/2006/table">
            <a:tbl>
              <a:tblPr/>
              <a:tblGrid>
                <a:gridCol w="1525320"/>
                <a:gridCol w="563760"/>
                <a:gridCol w="574560"/>
                <a:gridCol w="504720"/>
                <a:gridCol w="719280"/>
                <a:gridCol w="576360"/>
                <a:gridCol w="576000"/>
                <a:gridCol w="576360"/>
                <a:gridCol w="576360"/>
                <a:gridCol w="647640"/>
                <a:gridCol w="576360"/>
                <a:gridCol w="576360"/>
                <a:gridCol w="576000"/>
              </a:tblGrid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meno di 2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2-5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almeno 6 an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11280" y="4365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OTA DI RESIDENTI IN PROVINCIA DI RIMINI SU TEMPO DI PERMANENZA IN ITAL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83664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 DI PERMANENZA IN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83664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ZA NEL TERRITORIO RIMIN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IN QUALE TIPO DI ABITAZIONE VIVE ATTUALMEN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676440"/>
          <a:ext cx="8785440" cy="5997240"/>
        </p:xfrm>
        <a:graphic>
          <a:graphicData uri="http://schemas.openxmlformats.org/drawingml/2006/table">
            <a:tbl>
              <a:tblPr/>
              <a:tblGrid>
                <a:gridCol w="1465200"/>
                <a:gridCol w="1463760"/>
                <a:gridCol w="1465200"/>
                <a:gridCol w="1511280"/>
                <a:gridCol w="1417680"/>
                <a:gridCol w="1462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037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da solo o con la mi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con altre persone immigr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sa de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da solo o con la mi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da solo o con la mi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da solo o con la mi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037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con altre persone immigr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da solo o con la mi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con altre persone immigr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con altre persone immigr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resid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centro di accoglienza per stranieri o simi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6037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resid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sa de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da solo o con la mi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mpeggio, posto lett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con altre persone immigr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ato con altre persone immigr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</a:tr>
              <a:tr h="562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procurata da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 non ho dimora fi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procurata da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sa de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centro di accoglienza per stranieri o simi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procurata da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 non ho dimora fi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casa di mia proprie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resid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procurata da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procurata da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mpeggio, posto lett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centro di accoglienza per stranieri o simi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centro di accoglienza per stranieri o simi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tato con altre persone (anche italia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casa di mia proprie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 non ho dimora fi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resid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casa di mia proprie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resid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centro di accoglienza per stranieri o simi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residen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casa di mia proprie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casa di mia proprie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sa de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procurata da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casa di mia proprie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 centro di accoglienza per stranieri o simi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sa de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sa del mio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tato con altre persone (anche italia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tato con altre persone (anche italia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 non ho dimora fi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 non ho dimora fi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tato con altre persone (anche italia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 non ho dimora fi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tato con altre persone (anche italia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una casa che ho affitttato con altre persone (anche italian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COME HA TROVATO LA SUA ATTUALE ABITAZION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660240"/>
          <a:ext cx="8713800" cy="6073920"/>
        </p:xfrm>
        <a:graphic>
          <a:graphicData uri="http://schemas.openxmlformats.org/drawingml/2006/table">
            <a:tbl>
              <a:tblPr/>
              <a:tblGrid>
                <a:gridCol w="1152720"/>
                <a:gridCol w="299880"/>
                <a:gridCol w="1139760"/>
                <a:gridCol w="312840"/>
                <a:gridCol w="1127160"/>
                <a:gridCol w="360360"/>
                <a:gridCol w="1079640"/>
                <a:gridCol w="336240"/>
                <a:gridCol w="1105200"/>
                <a:gridCol w="358560"/>
                <a:gridCol w="1081080"/>
                <a:gridCol w="360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immobili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immobili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 sol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immobili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datore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 sol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 sol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immobili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immobili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bando pub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immobili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bando pub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bando pub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 sol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bando pub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 sol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 sol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bando pub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bando pubbl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4a CONDIZIONE PROFESSIONALE ATTU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-252360" y="620640"/>
          <a:ext cx="43927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620640"/>
                    <a:ext cx="43927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780000" y="476280"/>
          <a:ext cx="5976720" cy="33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476280"/>
                    <a:ext cx="597672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-396720" y="3716280"/>
          <a:ext cx="6197400" cy="314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96720" y="3716280"/>
                    <a:ext cx="619740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1042920" y="836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IZIONE OCCUP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836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TAGLIO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35002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TORI DI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65CB-11FA-4841-B1CB-C6401DEAE2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4b CONDIZIONE PROFESSIONALE ATTU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9280" y="836640"/>
          <a:ext cx="84250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84250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059280" y="76500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ATA DELL’ATTUALE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3933720"/>
          <a:ext cx="8577360" cy="29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33720"/>
                    <a:ext cx="85773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124000" y="386064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OLOGIA DI CONTRATTO (PER LAVORATORI DIPENDENT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AAA-1373-45D1-80BA-3875D8AD87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 COME HA TROVATO IL SUO ATTUALE LAVOR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660240"/>
          <a:ext cx="8713800" cy="5688000"/>
        </p:xfrm>
        <a:graphic>
          <a:graphicData uri="http://schemas.openxmlformats.org/drawingml/2006/table">
            <a:tbl>
              <a:tblPr/>
              <a:tblGrid>
                <a:gridCol w="1152720"/>
                <a:gridCol w="299880"/>
                <a:gridCol w="1139760"/>
                <a:gridCol w="312840"/>
                <a:gridCol w="1127160"/>
                <a:gridCol w="325440"/>
                <a:gridCol w="1114560"/>
                <a:gridCol w="336240"/>
                <a:gridCol w="1105200"/>
                <a:gridCol w="358560"/>
                <a:gridCol w="1152720"/>
                <a:gridCol w="288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ndosi direttamente al datore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ndosi direttamente al datore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88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 dell’azien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’ufficio di collocam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701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ndosi direttamente al datore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ndosi direttamente al datore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priv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143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 dell’azien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’ufficio di collocam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corso di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randomelo, ecc.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randomelo, ecc.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 dell’azien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immigra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mprandomelo, ecc.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/parenti (anche acquisiti)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 dell’azien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conoscenti italian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 dell’azien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ssociazioni di volontariato/assist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ndosi direttamente al datore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’ufficio di collocam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’ufficio di collocam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ndosi direttamente al datore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’ufficio di collocam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ondendo ad un annuncio dell’azien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priv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priv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priv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priv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’ufficio di collocamen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corso di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corso di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corso di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corso di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 corso di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un’agenzia priv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sindaca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sindaca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sindaca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sindaca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sindaca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il sindaca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3429000"/>
            <a:ext cx="82296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tranamente lo straniero ci abita,</a:t>
            </a: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è la faccia nascosta della nostra identità…</a:t>
            </a: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…riconoscerlo in noi</a:t>
            </a: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ci risparmia la vergogna</a:t>
            </a:r>
            <a:br>
              <a:rPr sz="2000"/>
            </a:b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di odiarlo in lui.”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da STRANIERI A NOI STESSI, Julia Kristev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6 PRECARIETA’ E MOBILITA’ DEL LAVO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03280" y="2997360"/>
          <a:ext cx="6264360" cy="36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997360"/>
                    <a:ext cx="62643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340000" y="282888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ERO DI SETTORI IN CUI SI E’ LAVOR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1197000"/>
          <a:ext cx="8713800" cy="1432080"/>
        </p:xfrm>
        <a:graphic>
          <a:graphicData uri="http://schemas.openxmlformats.org/drawingml/2006/table">
            <a:tbl>
              <a:tblPr/>
              <a:tblGrid>
                <a:gridCol w="2624040"/>
                <a:gridCol w="1031760"/>
                <a:gridCol w="1027080"/>
                <a:gridCol w="938520"/>
                <a:gridCol w="1031760"/>
                <a:gridCol w="1019160"/>
                <a:gridCol w="1041480"/>
              </a:tblGrid>
              <a:tr h="3049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 NEGLI ULTIMI 2 ANNI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475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HANNO INIZIA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NUOVO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ONO ARRIVATI IN 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1692360" y="907920"/>
            <a:ext cx="576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836640"/>
            <a:ext cx="85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QUANTE PERSONE, GIA’ IN ITALIA, HANNO INIZIATO UN NUOVO LAVORO NEGLI ULTIMI 2 ANN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5B82A43B-BAFD-4B15-AE19-567ACC563E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7 SETTORI DI IMPIEGO (risposta multipl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50920" y="660240"/>
          <a:ext cx="8642160" cy="6127920"/>
        </p:xfrm>
        <a:graphic>
          <a:graphicData uri="http://schemas.openxmlformats.org/drawingml/2006/table">
            <a:tbl>
              <a:tblPr/>
              <a:tblGrid>
                <a:gridCol w="1380960"/>
                <a:gridCol w="1452600"/>
                <a:gridCol w="1452600"/>
                <a:gridCol w="1450800"/>
                <a:gridCol w="1454400"/>
                <a:gridCol w="1450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97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LIZ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PER FAMIG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PER FAMIG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994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78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LIZ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OL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97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PER FAMIG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PER FAMIG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PER FAMIG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OL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66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OL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OL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LIZ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LIZ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PER FAMIG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12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LIZ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OL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LIZ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749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SETTORE INDUSTRI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isp. a quello attua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SETTORE INDUSTRI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isp. a quello attua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OL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SETTORE INDUSTRI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isp. a quello attua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ITA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SETTORE INDUSTRI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isp. a quello attua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SETTORE INDUSTRI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isp. a quello attua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SETTORE INDUSTRIA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isp. a quello attua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8 FORMAZIONE SVOL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413000"/>
          <a:ext cx="403884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13000"/>
                    <a:ext cx="403884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032440" y="1600200"/>
          <a:ext cx="326844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440" y="1600200"/>
                    <a:ext cx="32684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95280" y="112536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ZA CO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1197000"/>
            <a:ext cx="43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OLOGIA CORSI (Risposta multip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987640" y="4365720"/>
          <a:ext cx="327816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365720"/>
                    <a:ext cx="3278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484360" y="407664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ATA COR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40F-4B6A-4DA9-8701-C92624DA45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260280"/>
            <a:ext cx="842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ea di analisi num. 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CONDIZIONE ATTUALE: IDENTITA’ E AUTONOMIA (pp. 23-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484280"/>
            <a:ext cx="84247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9 CONTATTI A CONFRONTO NELLA RICERCA DI LAVORO E ABI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10 LA FAMIGL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legami affettivi, nazionalità del partner e luogo convivenza, presenza di figli e loro eventuale radicamento sul territor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11 LA RELIGION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fede e pratica religio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12 IL TEMPO LIBER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con chi trascorre maggiormente il suo tempo libe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13 LA LINGUA ITALIAN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buon livello di conoscenz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14 L’INFORMAZIONE TRAMITE I MASS MED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visione telegiornale e ascolto radiogiornale almeno due volte a settimana, lettura giornale d’informazione almeno una volta a settimana, comprensione e origine fonti informa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15 I TRASPORT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possesso di patente valida e automobile/furgone di proprietà, mezzo di trasporto di proprietà e quale è il princip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16 LE RIMESSE DI DENARO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quali e quali intermediari nell’inoltro del dena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.17 SPORTELLO IMMIGRATI E MEDICO DI BAS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frequenza nel ricorso allo sportello immigrati e presenza di un proprio medico di b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1E5437CA-0477-4C98-8802-87E0475D45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9 CONTATTI A CONFRON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LA RICERCA DI LAVORO E ABIT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-324000" y="1771560"/>
          <a:ext cx="5256360" cy="28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1771560"/>
                    <a:ext cx="5256360" cy="28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900000" y="1484280"/>
            <a:ext cx="43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ERCA DEL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140360" y="1844640"/>
          <a:ext cx="5545080" cy="305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0360" y="1844640"/>
                    <a:ext cx="554508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292720" y="148428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CERCA DELL’ABI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F89-2567-41F8-BA97-04934526DB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0a LA FAMIGL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0" y="1341360"/>
          <a:ext cx="4038480" cy="22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4038480" cy="22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112536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AMI AFFE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0" y="1268280"/>
          <a:ext cx="4035600" cy="26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995640" y="11253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ZIONALITA’ DEL PARTNER (Sposato o Lega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4508640"/>
          <a:ext cx="8708760" cy="1798560"/>
        </p:xfrm>
        <a:graphic>
          <a:graphicData uri="http://schemas.openxmlformats.org/drawingml/2006/table">
            <a:tbl>
              <a:tblPr/>
              <a:tblGrid>
                <a:gridCol w="1512720"/>
                <a:gridCol w="432000"/>
                <a:gridCol w="365040"/>
                <a:gridCol w="398520"/>
                <a:gridCol w="460440"/>
                <a:gridCol w="368280"/>
                <a:gridCol w="414360"/>
                <a:gridCol w="369720"/>
                <a:gridCol w="431640"/>
                <a:gridCol w="370080"/>
                <a:gridCol w="390600"/>
                <a:gridCol w="390240"/>
                <a:gridCol w="433440"/>
                <a:gridCol w="360360"/>
                <a:gridCol w="432000"/>
                <a:gridCol w="407880"/>
                <a:gridCol w="390600"/>
                <a:gridCol w="390600"/>
                <a:gridCol w="3902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itali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 connazionale o di altra nazional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1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ogni area, i valori indicano di seguito: CONVIVONO ASSIEME, IL PARTNER VIVE IN PATRIA, SEPARATI ALTROV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11280" y="4076640"/>
            <a:ext cx="76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UOGO CONVIVENZA E NAZIONALITA’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0b LA FAMIGL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8360" y="981000"/>
          <a:ext cx="459108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45910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148360" y="1197000"/>
          <a:ext cx="1652400" cy="1952280"/>
        </p:xfrm>
        <a:graphic>
          <a:graphicData uri="http://schemas.openxmlformats.org/drawingml/2006/table">
            <a:tbl>
              <a:tblPr/>
              <a:tblGrid>
                <a:gridCol w="671040"/>
                <a:gridCol w="981360"/>
              </a:tblGrid>
              <a:tr h="30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medio di fig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627280" y="83664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4360" y="3537000"/>
          <a:ext cx="7632720" cy="33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537000"/>
                    <a:ext cx="763272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564000" y="335772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 I SUOI FIGLI, QUALCUNO… (Si/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1 LA RELIG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2360" y="1125360"/>
          <a:ext cx="8713800" cy="3081600"/>
        </p:xfrm>
        <a:graphic>
          <a:graphicData uri="http://schemas.openxmlformats.org/drawingml/2006/table">
            <a:tbl>
              <a:tblPr/>
              <a:tblGrid>
                <a:gridCol w="1008000"/>
                <a:gridCol w="444600"/>
                <a:gridCol w="924120"/>
                <a:gridCol w="528480"/>
                <a:gridCol w="982800"/>
                <a:gridCol w="469800"/>
                <a:gridCol w="971640"/>
                <a:gridCol w="479160"/>
                <a:gridCol w="1032120"/>
                <a:gridCol w="422280"/>
                <a:gridCol w="946080"/>
                <a:gridCol w="50472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ULM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DI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IANA NON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IANA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ULM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ULM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IANA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A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vangelist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IANA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ULM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DI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TIANA NON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RED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RED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RED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RED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RED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CRED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 gridSpan="1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numero tra parentesi indica coloro che si sono definiti PRATICANTI circa la propria fede religios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2484360" y="76500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DE RELIGI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627280" y="4221000"/>
          <a:ext cx="4321080" cy="26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221000"/>
                    <a:ext cx="432108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692360" y="465300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A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IGI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016-7D40-4AAB-85FA-00CF9DC8FB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2 TEMPO LIB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1365120"/>
          <a:ext cx="8713800" cy="3888000"/>
        </p:xfrm>
        <a:graphic>
          <a:graphicData uri="http://schemas.openxmlformats.org/drawingml/2006/table">
            <a:tbl>
              <a:tblPr/>
              <a:tblGrid>
                <a:gridCol w="1152720"/>
                <a:gridCol w="299880"/>
                <a:gridCol w="1139760"/>
                <a:gridCol w="312840"/>
                <a:gridCol w="1127160"/>
                <a:gridCol w="360360"/>
                <a:gridCol w="1079640"/>
                <a:gridCol w="360360"/>
                <a:gridCol w="1081080"/>
                <a:gridCol w="358560"/>
                <a:gridCol w="1081080"/>
                <a:gridCol w="360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CONNAZIONAL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CONNAZIONAL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CONNAZIONAL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CONNAZIONAL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l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CONNAZIONAL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8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l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l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TALIAN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l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CONNAZIONAL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IMMIGRATI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ALTRA NAZIONALITA’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8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i PA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i PA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l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IMMIGRATI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ALTRA NAZIONALITA’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IMMIGRATI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ALTRA NAZIONALITA’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TALIAN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366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TALIAN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i PA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TALIAN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TALIAN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i PA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IMMIGRATI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ALTRA NAZIONALITA’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TALIANI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IMMIGRATI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ALTRA NAZIONALITA’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i PA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la FAMIGL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amici (IMMIGRATI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ALTRA NAZIONALITA’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i PA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SO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TEMPO LIB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TEMPO LIB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TEMPO LIB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TEMPO LIB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TEMPO LIB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TEMPO LIBE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1042920" y="765000"/>
            <a:ext cx="68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 CHI TRASCORRE MAGGIORMENTE IL SUO TEMPO LIBERO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isposta multip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5E6-A3AD-4439-9A33-6022861204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3 LA LINGUA ITALIA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62864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908000" y="1413000"/>
            <a:ext cx="55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ON LIVELLO DI CONOSCENZA DELLA LINGUA ITALI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4E7-8CD1-4D52-B79A-C893A1DFBE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692280"/>
          <a:ext cx="8785440" cy="5159160"/>
        </p:xfrm>
        <a:graphic>
          <a:graphicData uri="http://schemas.openxmlformats.org/drawingml/2006/table">
            <a:tbl>
              <a:tblPr/>
              <a:tblGrid>
                <a:gridCol w="3546720"/>
                <a:gridCol w="846000"/>
                <a:gridCol w="3613320"/>
                <a:gridCol w="779400"/>
              </a:tblGrid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OLOGIA DELLA RICER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5 I traspor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OSIZIONE DEI RISULTA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 Rimesse di dena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EN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7 Sportello immigrati e medico di b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A CONDIZIONE ORIGINA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ERCEZIONI E REFER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Caratteri sociostruttur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 Problemi sul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Condizione professionale origina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 Valutazione delle proprie capacità e competenz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37-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Motivi di emigr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 Altri proble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L’esperienza migrato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 Aree di intervento priorit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La migrazione nel territorio rimine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Riferimenti affidabi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. LA CONDIZIONE ATTUALE: ABITAZIONE E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 Gli abitanti di questa zo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Permanenza in Italia e presenza a Rimi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 Valutazione dei servizi sanita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43-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In quale tipo di abitazione vive attualmen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 La valutazione dell’esperienza migrator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Come ha trovato la sua attuale abit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 Le prospettive prossime fut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Condizione professionale attu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17-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L DETTAGLIO DI OGNI GRUP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13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Come ha trovato il suo attuale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 Alban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51-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 Precarietà e mobilità del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 C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56-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 Settori di impieg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 Ex-Ur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61-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 Formazione svol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 America Lat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65-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. LA CONDIZIONE ATTUALE: IDENTITA’ E AUTONOM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Nordafr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70-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 Contatti a confronto nella ricerca di lavoro e abit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Africa Subsahar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75-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0 La famig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25-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GA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113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 La relig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abella residenti immigrati in provincia di Rimini (200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 Il tempo libe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Questionario somministr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3 La lingua ital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. 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ettaglio risultati questionar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4 L’informazione tramite i mass med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. 30-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GRAZIAM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31B-E9B6-457A-8867-484261F069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4a L’INFORMAZIONE TRAMITE I MASS ME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700280"/>
          <a:ext cx="4859280" cy="38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85928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219640" y="1268280"/>
          <a:ext cx="3240000" cy="256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268280"/>
                    <a:ext cx="32400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9640" y="119700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ZA TELEGIORN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MENO 2 VOLTE A SETTI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91280" y="83664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ZA RADIOGIOR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MENO 2 VOLTE A SETTI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076720" y="4065480"/>
          <a:ext cx="3456000" cy="273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065480"/>
                    <a:ext cx="34560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716360" y="3716280"/>
            <a:ext cx="41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ZA GIORNALE D’INFORM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MENO 1 VOLTA A SETTI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692280"/>
          <a:ext cx="9144000" cy="57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44000" cy="57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324000" y="76500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RENSIONE E ORIGINE FONTI INF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4b L’INFORMAZIONE TRAMITE I MASS ME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07B-60FB-40D3-8C38-EDAD900530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5 I TRASPOR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332000" y="1268280"/>
          <a:ext cx="575928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268280"/>
                    <a:ext cx="575928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042920" y="1125360"/>
            <a:ext cx="720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SESSO DI PATENTE VALIDA E AUTOMOBILE/FURGONE DI PROPRIET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3284640"/>
          <a:ext cx="7848720" cy="35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284640"/>
                    <a:ext cx="78487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1619280" y="3141720"/>
            <a:ext cx="72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ZZO/I DI TRASPORTO DI PROPRIETA’ E QUALE IL PRINCIP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979640" y="4292640"/>
          <a:ext cx="482436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4292640"/>
                    <a:ext cx="48243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6 RIMESSE DI DENARO (risposta multipl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9280" y="660240"/>
          <a:ext cx="8713800" cy="3414960"/>
        </p:xfrm>
        <a:graphic>
          <a:graphicData uri="http://schemas.openxmlformats.org/drawingml/2006/table">
            <a:tbl>
              <a:tblPr/>
              <a:tblGrid>
                <a:gridCol w="1152720"/>
                <a:gridCol w="299880"/>
                <a:gridCol w="1139760"/>
                <a:gridCol w="312840"/>
                <a:gridCol w="1200240"/>
                <a:gridCol w="358560"/>
                <a:gridCol w="1152720"/>
                <a:gridCol w="360360"/>
                <a:gridCol w="936720"/>
                <a:gridCol w="358560"/>
                <a:gridCol w="1081080"/>
                <a:gridCol w="360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1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 E CONOSC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BAN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 E CONOSC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WESTERN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 E CONOSC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9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BAN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 E CONOSC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BAN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BAN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BAN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WESTERN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838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WESTERN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 person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WESTERN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 E CONOSC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WESTERN UN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BAN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838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AMICI E CONOSCEN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verso la POS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513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 person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i persona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ttraverso agenzia privata del mio paes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RIME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RIME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RIME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RIME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RIME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HO RIMES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700360" y="414972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MEDIARI NELL’INOLTRO DEL DENA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8C9F-0420-4269-8979-AB27ED9971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7 SPORTELLO IMMIGRATI E MEDICO DI 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2492280"/>
          <a:ext cx="5076720" cy="27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5076720" cy="27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116000" y="191628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EQUENZA NEL RIC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O SPORTELLO IMMIGR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45040" y="2492280"/>
          <a:ext cx="4098960" cy="27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45040" y="2492280"/>
                    <a:ext cx="40989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5076720" y="2060640"/>
            <a:ext cx="43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PRIO MEDICO DI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03A-37C0-4F3B-80EB-E101E02585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50920" y="260280"/>
            <a:ext cx="842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ea di analisi num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EZIONI E REFERE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pp. 35-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413000"/>
            <a:ext cx="842472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1 PROBLEMI SUL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2 VALUTAZIONE DELLE PROPRIE CAPACITA’ E COMPETENZ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utilità e origine delle capacità e competenze maturate negli anni, utilità della formazione svolta sul lavoro e extra-lavo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3 ALTRI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4 AREE DI INTERVENTO PRIORITARI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in quali aree c’è ancora molto da f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5 RIFERIMENTI AFFIDABIL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verso chi nutre molta fiduc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6 GLI ABITANTI DI QUESTA ZON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razzisti, diffidenti, indifferenti o accoglie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7 VALUTAZIONE DEI SERVIZI SANITARI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Pronto soccorso, Ambulatorio Extra-Cee, Medico di base, Consultorio Extra-C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8 LA VALUTAZIONE DELL’ESPERIENZA MIGRATOR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pentiti di essere venuti in Italia, progetto di andarsene appena possib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3.9 LE PROSPETTIVE PROSSIME FUTUR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una tipologia della valutazione dell’esperienza migratoria: rassegnati, ingolfati, nostalgici, fieri, itineranti, in via di radicamento e indeci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68A68A68-714B-4D76-BDCE-20268E1DEC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1 PROBLEMI SUL LAVORO (Risposta multipl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660240"/>
          <a:ext cx="8713800" cy="5696280"/>
        </p:xfrm>
        <a:graphic>
          <a:graphicData uri="http://schemas.openxmlformats.org/drawingml/2006/table">
            <a:tbl>
              <a:tblPr/>
              <a:tblGrid>
                <a:gridCol w="1152720"/>
                <a:gridCol w="299880"/>
                <a:gridCol w="1139760"/>
                <a:gridCol w="312840"/>
                <a:gridCol w="1127160"/>
                <a:gridCol w="325440"/>
                <a:gridCol w="1114560"/>
                <a:gridCol w="336240"/>
                <a:gridCol w="1105200"/>
                <a:gridCol w="358560"/>
                <a:gridCol w="1152720"/>
                <a:gridCol w="288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lunghezza o il tipo di ora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alario troppo ba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atica fisica o la tensione nerv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vorare più ore di quante ne appaiano sul contrat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atica fisica o la tensione nerv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atica fisica o la tensione nerv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878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atica fisica o la tensione nerv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lunghezza o il tipo di ora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lunghezza o il tipo di ora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lunghezza o il tipo di ora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alario troppo ba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lunghezza o il tipo di ora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687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alario troppo ba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irregolarità del rapporto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nei rapporti con i superio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carietà del rapporto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lunghezza o il tipo di ora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vorare più ore di quante ne appaiano sul contrat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014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soddisfazione pers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atica fisica o la tensione nerv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una formazione adegua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fatica fisica o la tensione nervo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vorare più ore di quante ne appaiano sul contrat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alario troppo ba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30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comprendere gli ordini e le richieste dei superio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comprendere gli ordini e le richieste dei superio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comprendere gli ordini e le richieste dei superi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soddisfazione pers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soddisfazione pers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rischi per la salute e l’incolumità pers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fare carriera per uno stranier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carietà del rapporto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soddisfazione pers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fare carriera per uno stranier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fare carriera per uno straniero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carietà del rapporto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per il riconoscimento del proprio titolo di stud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soddisfazione pers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nei rapporti con i compagni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alario troppo bass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nei rapporti con i compagni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soddisfazione pers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rischi per la salute e l’incolumità pers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fare carriera per uno straniero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fare carriera per uno straniero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irregolarità del rapporto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nei rapporti con i superi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una formazione adegu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nei rapporti con i compagni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vorare più ore di quante ne appaiano sul contrat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molestie sessuali da parte del datore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nei rapporti con i superi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molestie sessuali da parte del datore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nei rapporti con i superi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una formazione adegu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per il riconoscimento del proprio titolo di stud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carietà del rapporto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irregolarità del rapporto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nei rapporti con i superi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comprendere gli ordini e le richieste dei superior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una formazione adegu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per il riconoscimento del proprio titolo di stud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per il riconoscimento del proprio titolo di studi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maltrattamenti fisici in ambito lavorativ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mancanza di una formazione adeguat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2a VALUTAZIONE DELLE PROPRIE CAPACITA’ E COMPETEN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-684360" y="1197000"/>
          <a:ext cx="982836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1197000"/>
                    <a:ext cx="98283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39640" y="83664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NELLE CAPACITA’ E COMPETENZE MATURATE NEGLI ANNI, PENSA CHE SIANO STATI UTILI… (Risposta multip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490-990E-4F9D-8BA9-40D40C82B4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2b VALUTAZIONE DELLE PROPRIE CAPACITA’ E COMPETEN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1413000"/>
            <a:ext cx="421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TILITA’ DELLA FORM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VOLTA PRESSO L’ATTUALE IMPRE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Solo Lavoratori dipendenti, a tempo Indet./Det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284720" y="2276640"/>
          <a:ext cx="5327640" cy="25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276640"/>
                    <a:ext cx="5327640" cy="25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95280" y="1413000"/>
            <a:ext cx="396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TILITA’ DELLA FORM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VOLTA IN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olo su chi ha avuto esperienze di studio e/o seguito corsi in Ital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-468360" y="2276640"/>
          <a:ext cx="532764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68360" y="2276640"/>
                    <a:ext cx="532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23A-19E8-4D28-89F1-4117574546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 ALTRI PROBLEMI (Risposta multipl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79280" y="660240"/>
          <a:ext cx="8713800" cy="5991480"/>
        </p:xfrm>
        <a:graphic>
          <a:graphicData uri="http://schemas.openxmlformats.org/drawingml/2006/table">
            <a:tbl>
              <a:tblPr/>
              <a:tblGrid>
                <a:gridCol w="1152720"/>
                <a:gridCol w="299880"/>
                <a:gridCol w="1139760"/>
                <a:gridCol w="312840"/>
                <a:gridCol w="1127160"/>
                <a:gridCol w="325440"/>
                <a:gridCol w="1114560"/>
                <a:gridCol w="336240"/>
                <a:gridCol w="1105200"/>
                <a:gridCol w="358560"/>
                <a:gridCol w="1152720"/>
                <a:gridCol w="288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trovare ca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urata del permesso di soggior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carsa conoscenza della cultura e delle abitudini ital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trovare ca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trovare ca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trovare ca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478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costo della vita troppo al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costo della vita troppo al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trovare ca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dovute all’eccessiva burocraz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costo della vita troppo al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costo della vita troppo al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dovute all’eccessiva burocraz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carsa conoscenza della cultura e delle abitudini ital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urata del permesso di soggior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costo della vita troppo al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ostilità e la diffidenza della popolazione locale verso gli stranie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d assolvere i propri obblighi religios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ttiva qualità dell’abit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 trovare ca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ostilità e la diffidenza della popolazione locale verso gli stranie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urata del permesso di soggior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ttiva qualità dell’abit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ostilità e la diffidenza della popolazione locale verso gli stranie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ssione fi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dovute all’eccessiva burocraz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eccessiva distanza tra abitazione e posto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carsa conoscenza della cultura e delle abitudini ital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eccessiva distanza tra abitazione e posto di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eccessiva distanza tra abitazione e posto di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eccessiva distanza tra abitazione e posto di lavor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ostilità e la diffidenza della popolazione locale verso gli stranie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ttiva qualità dell’abi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ssione fisc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dovute all’eccessiva burocraz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ttiva qualità dell’abit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urata del permesso di soggior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ttiva qualità dell’abitazi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costo della vita troppo al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ttiva qualità dell’abi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renza di servizi sociali rivolti agl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carsa conoscenza della cultura e delle abitudini ital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78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ostilità e la diffidenza della popolazione locale verso gli stranie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renza di servizi sociali rivolti agli immigra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renza di servizi sociali rivolti agl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ostilità e la diffidenza della popolazione locale verso gli stranier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urata del permesso di soggior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renza di servizi sociali rivolti agl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d assolvere i propri obblighi religio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ssione fi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dovute all’eccessiva burocraz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eccessiva distanza tra abitazione e posto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ssione fisc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durata del permesso di soggior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renza di servizi sociali rivolti agl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eccessiva distanza tra abitazione e posto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ssione fisc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arenza di servizi sociali rivolti agli immigra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d assolvere i propri obblighi religio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dovute all’eccessiva burocraz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carsa conoscenza della cultura e delle abitudini italia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d assolvere i propri obblighi religio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d assolvere i propri obblighi religio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difficoltà ad assolvere i propri obblighi religios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carsa conoscenza della cultura e delle abitudini italia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essione fisc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OLOGIA DELLA RICER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91520" cy="41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BIETTIVO DELLA RICE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rificare, all’interno della provincia di Rimini, le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fferenze nell’approccio (ed eventuali punti critici) ai vari processi di socializzazione ed integrazione con i quali si confrontano i principali gruppi di immigrati, nazionali e macro-nazion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ETODO E SVILUPPO DELLA RICE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campione è stato scelto facendo riferimento 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6 gruppi nazionali e macro-nazionali (Albania, Cina, Ex-Urss, America Latina, Nordafrica, Africa Sub-Sahariana)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in grado di rappresentare globalmente 6.231 cittadini immigrati residenti al 1° gennaio 2002 su un totale di 9.514 (8.601 al netto dei comunitar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questo scopo, nel periodo giugno-luglio 2003, sono stat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tervistati 150 cittadini immigrati, 25 per ogni area o macro-are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tramite un questionario a risposta chiusa somministrato da 10 mediatori culturali, anch’essi stranie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rappresentatività del campione scelto non è riferita alla presenza complessiva degli immigrati (visto che si è intervistato un numero uguale di soggetti per ogni gruppo, a prescindere dal loro diverso peso sul totale), ma, allo scopo di mettere risalto le differenze tra i gruppi, si è preservata l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appresentatività interna a ogni gruppo per provenienza nazionale e ses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facendo riferimento ai dati divulgati dall’Ufficio Statistica della Provincia di Rimini sui cittadini immigrati residenti al 1° gennaio 200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scelta del campione è stata casuale, all’interno delle strutture di intervento e servizi agli immigrati della provincia di Rimini, tra i cittadini in possesso di regolare permesso di soggiorno e (per venire incontro alla precaria evoluzione dei dati assoluti) domiciliati abitualmente all’interno della Provincia di Rimi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numero ridotto (25) di appartenenti a ciascun campione ha reso consigliabile non compiere estrapolazioni statistiche più evolute, limitandosi dunque a frequenze di variabili, dal questionario e/o rielaborate, e qualche incrocio tra que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lo stesso motivo, il numero esiguo degli intervistati di ogni campione,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ogni conclusione tratta in sede di analisi va riletta come linea di tendenza, che eventualmente andrebbe avvalorata con studi più specifici e approfondi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D40-CC88-4450-8773-3F5F77D206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4 AREE DI INTERVENTO PRIORITAR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836640"/>
          <a:ext cx="8713800" cy="5429160"/>
        </p:xfrm>
        <a:graphic>
          <a:graphicData uri="http://schemas.openxmlformats.org/drawingml/2006/table">
            <a:tbl>
              <a:tblPr/>
              <a:tblGrid>
                <a:gridCol w="1152720"/>
                <a:gridCol w="299880"/>
                <a:gridCol w="1139760"/>
                <a:gridCol w="312840"/>
                <a:gridCol w="1127160"/>
                <a:gridCol w="325440"/>
                <a:gridCol w="1114560"/>
                <a:gridCol w="336240"/>
                <a:gridCol w="1105200"/>
                <a:gridCol w="358560"/>
                <a:gridCol w="1152720"/>
                <a:gridCol w="288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0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CONTRO QUALSIASI DISCRIMIN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RICERCA DI INCONTRI E SCAMBI TRA CULTURE DIFFE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SERVIZIO DI INFORMAZIONI SULLA REALTA’ ITAL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’ABI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SERVIZIO DI INFORMAZIONI SULLA REALTA’ ITAL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’ABI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230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GIURID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SERVIZIO DI INFORMAZIONI SULLA REALTA’ ITAL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’ABI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GIURID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’ABI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CONTRO QUALSIASI DISCRIMIN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30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’ABITAZIO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’APPRENDIMENTO DELLA LINGUA ITAL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SUL POSTO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CONTRO QUALSIASI DISCRIMIN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RICERCA DI INCONTRI E SCAMBI TRA CULTURE DIFFE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01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’ABI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SUL POSTO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SUL POSTO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GIURID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30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SANITA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GIURID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 SERVIZI DI PRIMA ACCOGLIEN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RICERCA DI INCONTRI E SCAMBI TRA CULTURE DIFFE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SERVIZIO DI INFORMAZIONI SULLA REALTA’ ITAL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01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SUL POSTO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CONTRO QUALSIASI DISCRIMIN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SANITA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CONTRO QUALSIASI DISCRIMIN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A RICERCA DI UN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401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CAMPO DELLA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SUL POSTO DI LAVO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’APPRENDIMENTO DELLA LINGUA ITALI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CAMPO DELLA FORMAZIONE PROFESSIONA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 SERVIZI DI PRIMA ACCOGLIEN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 SERVIZI DI PRIMA ACCOGLI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SERVIZIO DI INFORMAZIONI SULLA REALTA’ ITALI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GIURID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CONTRO QUALSIASI DISCRIMINAZIO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RICERCA DI INCONTRI E SCAMBI TRA CULTURE DIFFERE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SANITA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SANITA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RICERCA DI INCONTRI E SCAMBI TRA CULTURE DIFFEREN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CAMPO DELLA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RICERCA DI INCONTRI E SCAMBI TRA CULTURE DIFFERENT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’APPRENDIMENTO DELLA LINGUA ITALIA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GIURID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CAMPO DELLA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 SERVIZI DI PRIMA ACCOGLI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SANITA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CAMPO DELLA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SANITA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CAMPO DELLA FORMAZIONE PROFESSIONA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’APPRENDIMENTO DELLA LINGUA ITALI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’APPRENDIMENTO DELLA LINGUA ITALI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 SERVIZI DI PRIMA ACCOGLI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 SERVIZI DI PRIMA ACCOGLIENZ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 SERVIZIO DI INFORMAZIONI SULLA REALTA’ ITALI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’ASSISTENZA ALL’APPRENDIMENTO DELLA LINGUA ITALIA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la TUTELA SUL POSTO DI LAVOR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2687760" y="476280"/>
            <a:ext cx="35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’E’ ANCORA MOLTO DA FARE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A521A973-7BF8-4FAE-B2C0-41EBC6899A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5 RIFERIMENTI AFFIDABI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79280" y="1125360"/>
          <a:ext cx="8713800" cy="4061160"/>
        </p:xfrm>
        <a:graphic>
          <a:graphicData uri="http://schemas.openxmlformats.org/drawingml/2006/table">
            <a:tbl>
              <a:tblPr/>
              <a:tblGrid>
                <a:gridCol w="1152720"/>
                <a:gridCol w="299880"/>
                <a:gridCol w="1139760"/>
                <a:gridCol w="312840"/>
                <a:gridCol w="1127160"/>
                <a:gridCol w="325440"/>
                <a:gridCol w="1114560"/>
                <a:gridCol w="336240"/>
                <a:gridCol w="1105200"/>
                <a:gridCol w="287280"/>
                <a:gridCol w="1152360"/>
                <a:gridCol w="36036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2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OPOLO ITAL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ROPRIO PAESE DI ORIG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SPORTELLI PER IMMIGR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SPORTELLI PER IMMIGR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ROPRIO PAESE DI ORIG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SPORTELLI PER IMMIGR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932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ROPRI CONNAZION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OPOLO ITALI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STATO ITALI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HIESA CATTOL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INDAC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ASSOCIAZIONI DI VOLONTARI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32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ROPRIO PAESE DI ORIG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ASSOCIAZIONI DI VOLONTARI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OPOLO ITAL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ASSOCIAZIONI DI VOLONTARI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HIESA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ROPRI CONNAZION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72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SPORTELLI PER IMMIGRA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SPORTELLI PER IMMIGR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HIESA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OPOLO ITAL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ROPRI CONNAZION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INDAC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932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STATO ITAL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STATO ITALIA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ROPRI CONNAZION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STATO ITAL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ASSOCIAZIONI DI VOLONTARI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ROPRIO PAESE DI ORIG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834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ASSOCIAZIONI DI VOLONTARI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ROPRI CONNAZION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INDAC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PROPRI CONNAZIONAL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SPORTELLI PER IMMIGRAT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OPOLO ITAL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INDAC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IMPRENDITO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ROPRIO PAESE DI ORIG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INDAC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OPOLO ITAL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HIESA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HIESA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SINDAC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IMPRENDITO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PROPRIO PAESE DI ORIG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STATO ITAL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 STATO ITAL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IMPRENDITO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HIESA CATTOLI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 ASSOCIAZIONI DI VOLONTARIA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IMPRENDITO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IMPRENDITO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 IMPRENDITO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2246040" y="765000"/>
            <a:ext cx="47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UTRE MOLTA FIDUCIA NEI CONFRONTI DI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9AABD8B1-22EB-4F4A-9499-A95A13872A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6 GLI ABITANTI DI QUESTA ZO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-468360" y="907920"/>
          <a:ext cx="993636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907920"/>
                    <a:ext cx="993636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116000" y="836640"/>
            <a:ext cx="69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CONDO LA SUA ESPERIENZA, IN QUESTA ZONA SONO PIU’ NUMEROSI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4E0AD460-0685-4187-B01B-E3228C5249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7a VALUTAZIONE DEI SERVIZI SANITA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-289080" y="836640"/>
          <a:ext cx="9433080" cy="56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9080" y="836640"/>
                    <a:ext cx="943308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2411280" y="765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NTO SOCC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68C28A0C-3339-40D6-B7EE-00480F2A14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7b VALUTAZIONE DEI SERVIZI SANITA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-252360" y="836640"/>
          <a:ext cx="9144000" cy="49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836640"/>
                    <a:ext cx="914400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2195640" y="6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BULATORIO EXTRA-C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A83A7446-F6F6-4994-B401-D6AA63C7BF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7c VALUTAZIONE DEI SERVIZI SANITA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765000"/>
          <a:ext cx="820872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5000"/>
                    <a:ext cx="82087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2411280" y="6922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O DI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BED58660-EB01-4AF5-AD46-608EF9D9F5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7d VALUTAZIONE DEI SERVIZI SANITA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0" y="692280"/>
          <a:ext cx="835344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835344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411280" y="6922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ORIO EXTRA-C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3D39B696-0F33-45E8-BA74-FC0C70FA10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79240" y="33336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7e VALUTAZIONE DEI SERVIZI SANIT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68360" y="98100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19280" y="765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FERIMENTI A CONFRONTO PER OGNI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4000" y="1341360"/>
          <a:ext cx="2736720" cy="2238480"/>
        </p:xfrm>
        <a:graphic>
          <a:graphicData uri="http://schemas.openxmlformats.org/drawingml/2006/table">
            <a:tbl>
              <a:tblPr/>
              <a:tblGrid>
                <a:gridCol w="936360"/>
                <a:gridCol w="647640"/>
                <a:gridCol w="721080"/>
                <a:gridCol w="43164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8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T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COR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I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B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2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324000" y="3716280"/>
          <a:ext cx="2736720" cy="2238480"/>
        </p:xfrm>
        <a:graphic>
          <a:graphicData uri="http://schemas.openxmlformats.org/drawingml/2006/table">
            <a:tbl>
              <a:tblPr/>
              <a:tblGrid>
                <a:gridCol w="936360"/>
                <a:gridCol w="647640"/>
                <a:gridCol w="721080"/>
                <a:gridCol w="431640"/>
              </a:tblGrid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8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T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COR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I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B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2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203640" y="1341360"/>
          <a:ext cx="2736720" cy="2238480"/>
        </p:xfrm>
        <a:graphic>
          <a:graphicData uri="http://schemas.openxmlformats.org/drawingml/2006/table">
            <a:tbl>
              <a:tblPr/>
              <a:tblGrid>
                <a:gridCol w="936720"/>
                <a:gridCol w="647640"/>
                <a:gridCol w="720720"/>
                <a:gridCol w="43164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8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T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COR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I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B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2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3203640" y="3716280"/>
          <a:ext cx="2736720" cy="2238480"/>
        </p:xfrm>
        <a:graphic>
          <a:graphicData uri="http://schemas.openxmlformats.org/drawingml/2006/table">
            <a:tbl>
              <a:tblPr/>
              <a:tblGrid>
                <a:gridCol w="936720"/>
                <a:gridCol w="647640"/>
                <a:gridCol w="720720"/>
                <a:gridCol w="431640"/>
              </a:tblGrid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8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T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COR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I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B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2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084720" y="1341360"/>
          <a:ext cx="2737080" cy="2238480"/>
        </p:xfrm>
        <a:graphic>
          <a:graphicData uri="http://schemas.openxmlformats.org/drawingml/2006/table">
            <a:tbl>
              <a:tblPr/>
              <a:tblGrid>
                <a:gridCol w="936720"/>
                <a:gridCol w="647640"/>
                <a:gridCol w="720720"/>
                <a:gridCol w="432000"/>
              </a:tblGrid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8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T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COR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I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B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2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6084720" y="3716280"/>
          <a:ext cx="2737080" cy="2238480"/>
        </p:xfrm>
        <a:graphic>
          <a:graphicData uri="http://schemas.openxmlformats.org/drawingml/2006/table">
            <a:tbl>
              <a:tblPr/>
              <a:tblGrid>
                <a:gridCol w="936720"/>
                <a:gridCol w="647640"/>
                <a:gridCol w="720720"/>
                <a:gridCol w="432000"/>
              </a:tblGrid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8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NT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COR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ULATORI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16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BA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826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ORI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CE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F414809D-2ED6-4BBD-8EA1-71CB284F12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8 LA VALUTAZIONE DELL’ESPERIENZA MIGRATO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619280" y="907920"/>
          <a:ext cx="547200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907920"/>
                    <a:ext cx="547200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700360" y="76500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NTITI DI ESSERE VENUTI IN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187280" y="3860640"/>
          <a:ext cx="5832720" cy="299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860640"/>
                    <a:ext cx="583272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2411280" y="371628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ETTO DI ANDARSENE APPENA POSS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2D5-860D-4851-B8C8-AA09E6724D4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9 LE PROSPETTIVE PROSSIME FU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900000" y="2830680"/>
          <a:ext cx="7058160" cy="40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830680"/>
                    <a:ext cx="7058160" cy="40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0920" y="620640"/>
          <a:ext cx="8713800" cy="2157480"/>
        </p:xfrm>
        <a:graphic>
          <a:graphicData uri="http://schemas.openxmlformats.org/drawingml/2006/table">
            <a:tbl>
              <a:tblPr/>
              <a:tblGrid>
                <a:gridCol w="2017440"/>
                <a:gridCol w="669636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SSEGN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iti di essere arrivati qui, non pensano di andarsene appena possi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OLF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iti di essere arrivati qui, pensano di andarsene appena possibile verso un altro pa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STALG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iti di essere arrivati qui, pensano di tornare appena possibile al loro pa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pentiti di essere arrivati qui, pensano di tornare appena possibile al loro pa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INERA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pentiti di essere arrivati qui, pensano di andarsene appena possibile verso un altro pa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VIA DI RADIC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pentiti di essere arrivati qui, non pensano di andarsene appena possi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CI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cisi sulla valutazione della loro esperienza e/o del loro fut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6F0-7B91-4F82-BD94-FF2728E1951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OSIZIONE DEI RISULTA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BIETTIVO DELL’ESPOSI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la redazione del questionario e conseguentemente nella esposizione delle tabelle riassuntive dei risultati si è scelto di focalizzare l’analisi, oltre che doverosamente sui caratteri sociostrutturali, sulle sedi di socializzazione ed integrazione dei gruppi in esame con il territorio, italiano e riminese, con le quali si confrontano, distinguendo, nella reciproca interazione, tra comportamenti e percezion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AZIONE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questo scopo, i risultati sono stati raggruppati in quattro aree di analis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ONDIZIONE ORIGINARIA (caratteri sociostrutturali, condizione professionale di partenza, motivazioni all’emigrazion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ONDIZIONE ATTUALE (le situazioni abitazionale e professionale, le varie aree di identità e autonomia da e verso il territor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CEZIONI E REFERENTI (una valutazione dell’esperienza migratoria, nel suo insieme quanto per le distinte sedi di socializzazione ed integrazione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DETTAGLIO DI OGNI GRUPPO O MACRO-GRUPPO NAZIONALE (una caratterizzazione riassuntiva per ciascun gruppo nazionale e macro-nazionale dei dati emersi dall’indag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lle prime tre aree di analisi,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a margine di ogni gruppo omogeneo di tabelle e grafici riassuntiv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posto che questo era l’obiettivo principale della ricerca, sono stat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videnziate le differenze significative tra i sei gruppi nazionali e macro-nazion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allegato ai risultati della ricerca, per corredarli con il materiale che ha funto da premessa e ausilio alla loro stesura, sono stati riportat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TABELLA DEI RESIDENTI IMMIGRATI IN PROVINCIA DI RIMINI (dati 2002 forniti dall’Ufficio Statistica della Provincia di Rimini) alla quale si è ricorsi per la distribuzione e la rappresentatività del campione da intervista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QUESTIONARIO SOMMINISTRATO, costituito da 42 domande a risposta chiusa, talvolta multipla o su scala 1-4 o 1-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DETTAGLIO DEI RISULTATI DEL QUESTIONARIO, cioè lo spoglio delle risposte ottenute prima della loro esposizione per tabelle e grafici riassuntivi (al suo interno è inclusa anche la tabella di aree e riparto interviste per nazionalità, adottata per quantificare e qualificare il campione intervistat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7D7-EB12-4471-BD0F-03B9BA66CC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3429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RAZ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3860640"/>
            <a:ext cx="8351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ringrazia della gentile collaborazione la Dr.ssa Rossella Salvi dell’Ufficio Statistico della Provincia di Rimini per la gentile collaborazione nell’aver messo a disposizione i dati adottati come base per la rice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oltre un sincero grazie va a tutti coloro che si sono prestati affinchè questa ricerca arrivasse a compimento: Claude, Cui, Estrella, Houda, Merita, Mirtha, Nathalia, Salah, Shomien, Valeria, Giovanna, Francesca, Massimo e Miri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900000" y="5950080"/>
            <a:ext cx="7128000" cy="647640"/>
            <a:chOff x="900000" y="5950080"/>
            <a:chExt cx="7128000" cy="647640"/>
          </a:xfrm>
        </p:grpSpPr>
        <p:sp>
          <p:nvSpPr>
            <p:cNvPr id="300" name=""/>
            <p:cNvSpPr/>
            <p:nvPr/>
          </p:nvSpPr>
          <p:spPr>
            <a:xfrm>
              <a:off x="900000" y="5950080"/>
              <a:ext cx="712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io Glauco Galli, gennaio 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 conto dell’ASSOCIAZIONE ARCOBALE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16000" y="5950080"/>
              <a:ext cx="676908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836640"/>
          <a:ext cx="8229600" cy="5254560"/>
        </p:xfrm>
        <a:graphic>
          <a:graphicData uri="http://schemas.openxmlformats.org/drawingml/2006/table">
            <a:tbl>
              <a:tblPr/>
              <a:tblGrid>
                <a:gridCol w="1451160"/>
                <a:gridCol w="2303280"/>
                <a:gridCol w="4475160"/>
              </a:tblGrid>
              <a:tr h="72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-Ur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, Ucraina, Bielorussia, altr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 Lat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e, Perù, Colombia, Cuba, Argentina, Rep. Dominicana, Ecuador, altr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daf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occo, Tunisia, Egitto, Alger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Subsahari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egal, Nigeria, Costa d’Avorio, altr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E CAMPIONE PER CIASCUN GRUPPO =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0BD-64CB-42CD-A6AA-C996364504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404640"/>
            <a:ext cx="842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ea di analisi num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CONDIZIONE ORIGI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pp. 7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628640"/>
            <a:ext cx="84247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1 CARATTERI SOCIOSTRUTTURA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sesso, età -per classi-, livello di istruzione originario –quantificato in anni di studi in patria-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2 CONDIZIONE PROFESSIONALE ORIGINARI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dizione occupazionale, dettaglio su situazione e settore occupazion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3 MOTIVI DI EMIGR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4 L’ESPERIENZA MIGRATORI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Italia prima scelta, altre esperienze migrator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.5 LA MIGRAZIONE NEL TERRITORIO RIMINESE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una tipologia del progetto migratorio a Rimini: subito, transitorio, diretto, consapevole, indecis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bio Glauco Gal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ina </a:t>
            </a:r>
            <a:fld id="{E2E75464-F3F6-4510-9FC5-52936279CF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1 CARATTERI SOCIOSTRUTTU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-900000" y="1262160"/>
          <a:ext cx="6335640" cy="19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00000" y="1262160"/>
                    <a:ext cx="633564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067280" y="1268280"/>
          <a:ext cx="507672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268280"/>
                    <a:ext cx="50767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35280" y="3997440"/>
          <a:ext cx="5400720" cy="28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997440"/>
                    <a:ext cx="540072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58920" y="9079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S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981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ASSI DI ET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3789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NI DI STUDI IN PA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DDD-BC2A-4095-AC0C-E7D3C45881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 CONDIZIONE PROFESSIONALE ORIGINA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181080" y="836640"/>
          <a:ext cx="424836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836640"/>
                    <a:ext cx="42483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843280" y="260280"/>
          <a:ext cx="7056360" cy="35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60280"/>
                    <a:ext cx="70563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755640" y="3500280"/>
          <a:ext cx="7416720" cy="335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500280"/>
                    <a:ext cx="741672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55640" y="9079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DIZIONE OCCUPAZ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51640" y="765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TAGLIO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4000" y="37162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TORI DI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8CC-57DA-4B00-8D8A-EBCDF35260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5T06:35:08Z</dcterms:created>
  <dc:creator>Andrea Pezzi</dc:creator>
  <dc:description/>
  <dc:language>en-US</dc:language>
  <cp:lastModifiedBy>Andrea Pezzi</cp:lastModifiedBy>
  <dcterms:modified xsi:type="dcterms:W3CDTF">2004-01-16T08:07:54Z</dcterms:modified>
  <cp:revision>173</cp:revision>
  <dc:subject/>
  <dc:title>SESSO, ETA’, ANNI DI STUDI</dc:title>
</cp:coreProperties>
</file>