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9CF41-CA07-42F4-A4CF-99AF6C9C0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2910-8A3E-4AD7-A735-A4EB52FA7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2F754-EC08-4DCC-9F6E-039740E02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09365-8FFE-4B93-815C-E57FA3F1C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B3FF9-3029-4F07-95B4-EC22BFA82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5ECDC-F0D6-436A-866D-095A7D15A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D504A-7E68-42DE-860F-25D3719F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CFA07-87D2-4D4A-B28C-183EA582C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35581-35C5-4818-BB84-93BAD74AA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7F168-3270-4BB4-9FC8-07C71C318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A591-B649-4703-A297-5A097CE7C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C6BD-4C0A-4CD2-9241-CE0137204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E4F0-0A58-4DA6-B8B3-BE4DFF08A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 CARATTERI SOCIOSTRUTTURALI</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42" name="PlaceHolder 2"/>
          <p:cNvSpPr>
            <a:spLocks noGrp="1"/>
          </p:cNvSpPr>
          <p:nvPr>
            <p:ph/>
          </p:nvPr>
        </p:nvSpPr>
        <p:spPr>
          <a:xfrm>
            <a:off x="539640" y="1341000"/>
            <a:ext cx="8229600" cy="5327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Ogni gruppo in esame, rispetto agli altri, presenta delle nette peculiarità circa le proprie caratteristiche sociostruttural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NIA: equilibrio nella presenza di maschi e femmine, età più avanzata rispetto agli altri gruppi (con una maggioranza di persone oltre i 44 anni), alto livello di scolarizzazione (7 su 25 sono laureati e solo uno non ha almeno 10 anni di stud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NA: equilibrio nella presenza di maschi e femmine, età relativamente giovane (solo 4 superano i 44 anni e 10 ne hanno meno di 30), livello di scolarizzazione molto basso (19 su 25 non superano 10 anni di stud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X-URSS: presenza femminile quasi esclusiva (20 su 25, la più spiccata tra i gruppi), età nettamente superiore agli altri gruppi (24 su 25 hanno almeno 30 anni), livello di scolarizzazione molto elevato (ben 10 laureati su 25, anche in questo caso il valore più elevato).</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MERICA LATINA: presenza femminile più marcata (16 su 25), di media età (gran parte, 17 su 25, sono nella classe intermedia tra 30 e 44 anni), livello di scolarizzazione verso l’alto (15 su 25 hanno più di 10 anni di studi e di questi 4 sono laureat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RDAFRICA: netta maggioranza nella presenza maschile (17 su 25), età relativamente giovane (10 su 25 hanno meno di 30 anni e solo 1 supera i 44), livello di scolarizzazione verso il basso (14 su 25 non superano i 10 anni di stud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FRICA SUBSAHARIANA: presenza maschile quasi esclusiva (20 su 25, la più spiccata in tal senso tra i gruppi), di media età (14 su 25 sono nella classe intermedia e gli altri si spartiscono quasi equamente tra sotto i 30 anni e oltre i 44), livello di scolarizzazione molto basso (il più basso tra i gruppi, 21 su 25 non superano i 10 anni di studi).</a:t>
            </a:r>
            <a:endParaRPr b="0" lang="en-US" sz="1400" spc="-1" strike="noStrike">
              <a:solidFill>
                <a:srgbClr val="000000"/>
              </a:solidFill>
              <a:latin typeface="Arial"/>
            </a:endParaRPr>
          </a:p>
        </p:txBody>
      </p:sp>
      <p:sp>
        <p:nvSpPr>
          <p:cNvPr id="43"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b CONDIZIONE PROFESSIONALE ATTUAL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69"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stabilità dell’attuale lavoro, protratta nel tempo, rivela come per CINA (19) e EX-URSS (20) sia molto elevato il numero di chi ha cambiato lavoro negli ultimi 2 ann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realtà, è più opportuna e rivelatrice un’analisi compiuta e mostrata in tabella in una pagina successiva (vedi 2.6), che confronta questo dato con l’effettivo arrivo di ogni individuo (visto che, ad esempio, la migrazione dalla Ex-Urss è molto più recente, mentre quella da Nordafrica e Africa Subsahariana molto più datata e dunque presupporrebbe una più alta probabilità di raggiungere un lavoro stabil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rca le tipologie di assunzione tra i lavoratori dipendenti, confrontando chi ha un contratto determinato, chi indeterminato e chi invece ha un rapporto instabile (come stagionale o parasubordinato) e/o irregolare (in nero), si nota ch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4 gruppi su 6 la collocazione maggioritaria è quella del contratto a tempo indeterminato:</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CINA e NORDAFRICA si ha una metà di contratti a tempo indeterminato e la quota restante è divisa equamente tra determinato e instabili/irregolari;</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AMERICA LATINA si ha una metà di contratti a tempo indeterminato, ma il restante è molto più reclutato come instabile/irregolare che a tempo determinato;</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AFRICA SUBSAHARIANA è ancora più alta (due terzi) la quota di contratti a tempo indeterminato, il terzo rimanente è a tempo determinato, mentre non vi sono situazioni instabili/irregolari;</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sito dell’indagine è, invece, differente e più precario per:</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X-URSS, dove è molto alta (18 casi su 25) la presenza di contratti a tempo determinato, minoritaria quella a tempo indeterminato (6 su 25) ed esigua (un solo caso su 25) una condizione instabile/irregola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BANIA, in cui la situazione predominante è proprio quella instabile/irregolare (in quasi la metà dei casi, 10  su 19), mentre tra gli altri (analogamente a tutti i gruppi, escluso l’Ex-Urss) il contratto a tempo indeterminato è più diffuso di quello a tempo determinato).</a:t>
            </a:r>
            <a:endParaRPr b="0" lang="en-US" sz="1200" spc="-1" strike="noStrike">
              <a:solidFill>
                <a:srgbClr val="000000"/>
              </a:solidFill>
              <a:latin typeface="Arial"/>
            </a:endParaRPr>
          </a:p>
        </p:txBody>
      </p:sp>
      <p:sp>
        <p:nvSpPr>
          <p:cNvPr id="70"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 COME HA TROVATO IL SUO ATTUALE LAVOR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72" name="PlaceHolder 2"/>
          <p:cNvSpPr>
            <a:spLocks noGrp="1"/>
          </p:cNvSpPr>
          <p:nvPr>
            <p:ph/>
          </p:nvPr>
        </p:nvSpPr>
        <p:spPr>
          <a:xfrm>
            <a:off x="457200" y="1267920"/>
            <a:ext cx="8229600" cy="5040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nel caso dei contatti proficui per trovare lavoro, come per l’abitazione, la situazione tra i gruppi si differenzia in modo marcato, pur presentando, tra i più rilevanti, dei caratteri comun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AMICI/PARENTI IMMIGRATI </a:t>
            </a:r>
            <a:r>
              <a:rPr b="0" i="1" lang="it-IT" sz="1200" spc="-1" strike="noStrike">
                <a:solidFill>
                  <a:srgbClr val="000000"/>
                </a:solidFill>
                <a:latin typeface="Arial"/>
              </a:rPr>
              <a:t>(su sfondo arancione)</a:t>
            </a:r>
            <a:r>
              <a:rPr b="0" lang="it-IT" sz="1200" spc="-1" strike="noStrike">
                <a:solidFill>
                  <a:srgbClr val="000000"/>
                </a:solidFill>
                <a:latin typeface="Arial"/>
              </a:rPr>
              <a:t>, il contatto principale per Albania (7) e Africa Subsahariana (7), rilevante per Cina (5) e Ex-Urss (5), discreto per America Latina (3), ma addirittura assente per Nordafric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CONOSCENTI IMMIGRATI </a:t>
            </a:r>
            <a:r>
              <a:rPr b="0" i="1" lang="it-IT" sz="1200" spc="-1" strike="noStrike">
                <a:solidFill>
                  <a:srgbClr val="000000"/>
                </a:solidFill>
                <a:latin typeface="Arial"/>
              </a:rPr>
              <a:t>(su sfondo giallo)</a:t>
            </a:r>
            <a:r>
              <a:rPr b="0" lang="it-IT" sz="1200" spc="-1" strike="noStrike">
                <a:solidFill>
                  <a:srgbClr val="000000"/>
                </a:solidFill>
                <a:latin typeface="Arial"/>
              </a:rPr>
              <a:t>, contatto principale per Cina (10) e Ex-Urss (9), discreto per America Latina (4), inferiore per gli altri gruppi (tutti con 2 cas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ESENTANDOSI DIRETTAMENTE AL DATORE DI LAVORO </a:t>
            </a:r>
            <a:r>
              <a:rPr b="0" i="1" lang="it-IT" sz="1200" spc="-1" strike="noStrike">
                <a:solidFill>
                  <a:srgbClr val="000000"/>
                </a:solidFill>
                <a:latin typeface="Arial"/>
              </a:rPr>
              <a:t>(su sfondo verde)</a:t>
            </a:r>
            <a:r>
              <a:rPr b="0" lang="it-IT" sz="1200" spc="-1" strike="noStrike">
                <a:solidFill>
                  <a:srgbClr val="000000"/>
                </a:solidFill>
                <a:latin typeface="Arial"/>
              </a:rPr>
              <a:t>, opzione principale per Nordafrica (7) e America Latina (6), discreta per Albania (3) e Cina (3), assente per Ex-Urss e Africa Subsaharian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tilità dei contatti italiani è invece più sporadica e localizzat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AMICI/PARENTI (ANCHE ACQUISITI) ITALIANI </a:t>
            </a:r>
            <a:r>
              <a:rPr b="0" i="1" lang="it-IT" sz="1200" spc="-1" strike="noStrike">
                <a:solidFill>
                  <a:srgbClr val="000000"/>
                </a:solidFill>
                <a:latin typeface="Arial"/>
              </a:rPr>
              <a:t>(su sfondo blu)</a:t>
            </a:r>
            <a:r>
              <a:rPr b="0" lang="it-IT" sz="1200" spc="-1" strike="noStrike">
                <a:solidFill>
                  <a:srgbClr val="000000"/>
                </a:solidFill>
                <a:latin typeface="Arial"/>
              </a:rPr>
              <a:t>, è un’eventualità che si è presentata in misura discreta tra Albania (4, la seconda per importanza), Africa Subsahariana (3) e Nordafrica (3), meno rilevante per America Latina (2), assente per Cina e Ex-Urs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CONOSCENTI ITALIANI </a:t>
            </a:r>
            <a:r>
              <a:rPr b="0" i="1" lang="it-IT" sz="1200" spc="-1" strike="noStrike">
                <a:solidFill>
                  <a:srgbClr val="000000"/>
                </a:solidFill>
                <a:latin typeface="Arial"/>
              </a:rPr>
              <a:t>(su sfondo celeste)</a:t>
            </a:r>
            <a:r>
              <a:rPr b="0" lang="it-IT" sz="1200" spc="-1" strike="noStrike">
                <a:solidFill>
                  <a:srgbClr val="000000"/>
                </a:solidFill>
                <a:latin typeface="Arial"/>
              </a:rPr>
              <a:t>, è determinante per Ex-Urss (in 7 casi su 25, la seconda opzione per importanza), ma minima o assente per tutti gli altri grupp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piccano anche le opzion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L’UFFICIO DI COLLOCAMENTO </a:t>
            </a:r>
            <a:r>
              <a:rPr b="0" i="1" lang="it-IT" sz="1200" spc="-1" strike="noStrike">
                <a:solidFill>
                  <a:srgbClr val="000000"/>
                </a:solidFill>
                <a:latin typeface="Arial"/>
              </a:rPr>
              <a:t>(su sfondo marrone)</a:t>
            </a:r>
            <a:r>
              <a:rPr b="0" lang="it-IT" sz="1200" spc="-1" strike="noStrike">
                <a:solidFill>
                  <a:srgbClr val="000000"/>
                </a:solidFill>
                <a:latin typeface="Arial"/>
              </a:rPr>
              <a:t>, il cui ruolo è largamente (in 6 casi su 25) riconosciuto dal gruppo dell’Africa Subsahariana, ma solo ed esclusivamente da quest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NDENDO AD UN ANNUNCIO DELL’AZIENDA </a:t>
            </a:r>
            <a:r>
              <a:rPr b="0" i="1" lang="it-IT" sz="1200" spc="-1" strike="noStrike">
                <a:solidFill>
                  <a:srgbClr val="000000"/>
                </a:solidFill>
                <a:latin typeface="Arial"/>
              </a:rPr>
              <a:t>(su sfondo rosso)</a:t>
            </a:r>
            <a:r>
              <a:rPr b="0" lang="it-IT" sz="1200" spc="-1" strike="noStrike">
                <a:solidFill>
                  <a:srgbClr val="000000"/>
                </a:solidFill>
                <a:latin typeface="Arial"/>
              </a:rPr>
              <a:t>, discretamente importante (4 casi) per il Nordafrica, confermando, come già nel presentarsi direttamente al datore di lavoro, la peculiarità di questo gruppo nel palesare un margine di iniziativa e autonomia molto più elevato che negli altri gruppi;</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RAVERSO UN’AGENZIA PRIVATA </a:t>
            </a:r>
            <a:r>
              <a:rPr b="0" i="1" lang="it-IT" sz="1200" spc="-1" strike="noStrike">
                <a:solidFill>
                  <a:srgbClr val="000000"/>
                </a:solidFill>
                <a:latin typeface="Arial"/>
              </a:rPr>
              <a:t>(su sfondo grigio)</a:t>
            </a:r>
            <a:r>
              <a:rPr b="0" lang="it-IT" sz="1200" spc="-1" strike="noStrike">
                <a:solidFill>
                  <a:srgbClr val="000000"/>
                </a:solidFill>
                <a:latin typeface="Arial"/>
              </a:rPr>
              <a:t>, sempre e solo per il Nordafrica (4 casi), a ulteriore conferma di quanto appena esposto e in speculare opposizione all’opinione del gruppo dell’Africa Subsahariana (legato agli uffici di collocamento)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omplesso, invece, è davvero minimo l’apporto sostanziale in questo campo proveniente d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SOCIAZIONI DI VOLONTARIATO/ASSISTENZA (7 casi su 150, tra cui 2 per Ex-Urss e America Latin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RSI DI FORMAZIONE PROFESSIONALE (2 casi su 150, solo per l’Africa Subsaharian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NDACATO (nessun caso su 150 persone intervista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rimarcare anche, in 4 casi su 150, l’ammissione di essersi “comprato” il posto di lavoro.</a:t>
            </a:r>
            <a:endParaRPr b="0" lang="en-US" sz="1200" spc="-1" strike="noStrike">
              <a:solidFill>
                <a:srgbClr val="000000"/>
              </a:solidFill>
              <a:latin typeface="Arial"/>
            </a:endParaRPr>
          </a:p>
        </p:txBody>
      </p:sp>
      <p:sp>
        <p:nvSpPr>
          <p:cNvPr id="73"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PRECARIETA’ E MOBILITA’ DEL LAVOR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75"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prima tabella mette più a fuoco la precarietà del lavoro, andando a sottrarre, da coloro che mantengono l’attuale lavoro da meno di 2 anni, coloro che sono arrivati in Italia nello stesso arco di tempo e per i quali non potrebbe essere altriment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differenza può sommariamente indicare l’entità di coloro che, pur essendo in Italia da più di 2 anni, in questo ultimo biennio hanno intrapreso un nuovo lavoro, fornendo dunque, per ciascun gruppo, un grado relativo di precarietà della loro condizione occupazional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a luce di questa e della tabella che segue sul numero dei diversi settori occupazionali in cui si ha lavorato, tenendo anche conto delle indicazioni già tratte sui tempi dell’arrivo in Italia (vedi 2.1), si può desumere ch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RICA LATINA e ALBANIA sono i gruppi caratterizzati da minore precarietà del lavoro, per quanto rispettivamente 13 e 14 persone su 25 (un valore medio rispetto agli altri gruppi) abbiano dal loro arrivo lavorato in più di un settor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converso, EX-URSS e soprattutto CINA hanno la quota più alta, molto più alta, di precari, anche alla luce dei tempi più recenti di immigrazione in Italia, a causa dei quali, probabilmente, hanno anche i valori più bassi di mobilità tra più settori (rispettivamente 7 e 11 su 25).</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due gruppi provenienti dall’Africa sono quelli il cui arrivo è più lontano nel tempo (per entrambi, almeno il 75% del campione è in Italia da più di 5 anni), m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caso dell’AFRICA SUBSAHARIANA, se ben 20 persone su 25 hanno lavorato in più di un settore, a ciò corrisponde ora una quota bassa di persone (6) che negli ultimi 2 anni hanno iniziato un nuovo lavoro, prefigurando dunque una situazione occupazionale che, negli anni, da precaria si è fatta più stabil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pposto, per il gruppo del NORDAFRICA, anch’esso caratterizzato da un’alta quota di mobilità tra settori lavorativi (quasi la metà, 11 su 25, ha lavorato in almeno 3 settori), è ancora alto (11 su 25) il numero di chi negli ultimi 2 anni si è trovato a iniziare un nuovo lavoro.</a:t>
            </a:r>
            <a:endParaRPr b="0" lang="en-US" sz="1400" spc="-1" strike="noStrike">
              <a:solidFill>
                <a:srgbClr val="000000"/>
              </a:solidFill>
              <a:latin typeface="Arial"/>
            </a:endParaRPr>
          </a:p>
        </p:txBody>
      </p:sp>
      <p:sp>
        <p:nvSpPr>
          <p:cNvPr id="76"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7 SETTORI DI IMPIEG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78"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verifica dei settori occupazionali in cui ha lavorato almeno una volta ogni individuo configura, anche in questa occasione, un quadro estremamente variegato, sia tra i sei gruppi che, riportando tra parentesi e in corsivo anche quanti tra questi vi lavorano attualmente, per la continuità di occupazione in uno specifico setto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ERVIZI PER FAMIGLIE </a:t>
            </a:r>
            <a:r>
              <a:rPr b="0" i="1" lang="it-IT" sz="1200" spc="-1" strike="noStrike">
                <a:solidFill>
                  <a:srgbClr val="000000"/>
                </a:solidFill>
                <a:latin typeface="Arial"/>
              </a:rPr>
              <a:t>(su sfondo giallo)</a:t>
            </a:r>
            <a:r>
              <a:rPr b="0" lang="it-IT" sz="1200" spc="-1" strike="noStrike">
                <a:solidFill>
                  <a:srgbClr val="000000"/>
                </a:solidFill>
                <a:latin typeface="Arial"/>
              </a:rPr>
              <a:t> è il settore d’impiego in cui hanno lavorato quasi tutte le persone del gruppo Ex-Urss (21 su 25, nei fatti più di quante siano le presenze femminili, di cui 17 tuttora), il principale anche per America Latina (10 su 25, di cui 7 tuttora), rilevante pure per gli altri gruppi (per quanto in misura meno continuativa) escluso quello della Cina dove invece è quasi assen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campo dell’EDILIZIA </a:t>
            </a:r>
            <a:r>
              <a:rPr b="0" i="1" lang="it-IT" sz="1200" spc="-1" strike="noStrike">
                <a:solidFill>
                  <a:srgbClr val="000000"/>
                </a:solidFill>
                <a:latin typeface="Arial"/>
              </a:rPr>
              <a:t>(su sfondo arancione)</a:t>
            </a:r>
            <a:r>
              <a:rPr b="0" lang="it-IT" sz="1200" spc="-1" strike="noStrike">
                <a:solidFill>
                  <a:srgbClr val="000000"/>
                </a:solidFill>
                <a:latin typeface="Arial"/>
              </a:rPr>
              <a:t>  il discorso è analogo, pur in misura minora e con attori diversi: è il settore principale per il gruppo dell’Albania (vi hanno lavorato in 12 e attualmente in 9) e ha impiegato un discreto numero di persone (dai 4 ai 5, ma anch’essi con un’alta percentuale di “stabili”) di Nordafrica, Africa Subsahariana e America Latina. Inferiore e meno continuativo l’impiego in edilizia per i gruppi Ex-Urss e Cin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INDUSTRIA </a:t>
            </a:r>
            <a:r>
              <a:rPr b="0" i="1" lang="it-IT" sz="1200" spc="-1" strike="noStrike">
                <a:solidFill>
                  <a:srgbClr val="000000"/>
                </a:solidFill>
                <a:latin typeface="Arial"/>
              </a:rPr>
              <a:t>(su sfondo verde)</a:t>
            </a:r>
            <a:r>
              <a:rPr b="0" lang="it-IT" sz="1200" spc="-1" strike="noStrike">
                <a:solidFill>
                  <a:srgbClr val="000000"/>
                </a:solidFill>
                <a:latin typeface="Arial"/>
              </a:rPr>
              <a:t>, rispetto al settore precedente, vi è quantitativamente una presenza superiore: 20 cinesi su 25 vi hanno lavorato (12 tuttora), 14 nordafricani, 7 albanesi e 7 dell’Africa Subsahariana, ma solo per questi ultimi e i cinesi, il confronto tra chi vi ha lavorato e chi vi lavora ora prospetta un approdo sufficientemente stabile. Quasi assente, nel passato e ora, l’impiego in industria per America Latina e Ex-Ur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rca il COMMERCIO </a:t>
            </a:r>
            <a:r>
              <a:rPr b="0" i="1" lang="it-IT" sz="1200" spc="-1" strike="noStrike">
                <a:solidFill>
                  <a:srgbClr val="000000"/>
                </a:solidFill>
                <a:latin typeface="Arial"/>
              </a:rPr>
              <a:t>(su sfondo blu)</a:t>
            </a:r>
            <a:r>
              <a:rPr b="0" lang="it-IT" sz="1200" spc="-1" strike="noStrike">
                <a:solidFill>
                  <a:srgbClr val="000000"/>
                </a:solidFill>
                <a:latin typeface="Arial"/>
              </a:rPr>
              <a:t>, è la voce principale per Africa Subsahariana (15 su 25) e degna di nota per Cina e America Latina (entrambi 6 casi), mentre è molto inferiore negli altri gruppi. Va sottolineato che, tra le 15 persone dell’Africa Subsahariana che hanno lavorato nell’ambito del commercio, solo 3 vi lavorano ancor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URISMO </a:t>
            </a:r>
            <a:r>
              <a:rPr b="0" i="1" lang="it-IT" sz="1200" spc="-1" strike="noStrike">
                <a:solidFill>
                  <a:srgbClr val="000000"/>
                </a:solidFill>
                <a:latin typeface="Arial"/>
              </a:rPr>
              <a:t>(su sfondo celeste)</a:t>
            </a:r>
            <a:r>
              <a:rPr b="0" lang="it-IT" sz="1200" spc="-1" strike="noStrike">
                <a:solidFill>
                  <a:srgbClr val="000000"/>
                </a:solidFill>
                <a:latin typeface="Arial"/>
              </a:rPr>
              <a:t>, anche per effetto del contesto socio-economico riminese, è l’unico settore in cui ha lavorato almeno una discreta parte di ogni gruppo: maggioritaria per i gruppi Nordafrica (16) e Africa Subsahariana (14), importante anche per Albania (9), più che discreta per America Latina (6). Da rimarcare però che, a differenza dei gruppi appena esposti, proprio quelli con il minor numero di occupati nel settore turistico, Ex-Urss e Cina, rispettivamente 5 e 4, sono anche quelli dove ciò avviene, quasi integralmente, pure attualmen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settore AGRICOLTURA </a:t>
            </a:r>
            <a:r>
              <a:rPr b="0" i="1" lang="it-IT" sz="1200" spc="-1" strike="noStrike">
                <a:solidFill>
                  <a:srgbClr val="000000"/>
                </a:solidFill>
                <a:latin typeface="Arial"/>
              </a:rPr>
              <a:t>(su sfondo marrone)</a:t>
            </a:r>
            <a:r>
              <a:rPr b="0" lang="it-IT" sz="1200" spc="-1" strike="noStrike">
                <a:solidFill>
                  <a:srgbClr val="000000"/>
                </a:solidFill>
                <a:latin typeface="Arial"/>
              </a:rPr>
              <a:t>, come e più del precedente a carattere stagionale, sono stati impiegati un’importante quota (10 su 25) del gruppo Nordafrica. Inferiori, ma significative, anche le quote di Africa Subsahariana (7) e Albania (4). Di tutti questi casi, però, nessuno vi è impiegato attualmen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a evidenziata, esclusivamente per il gruppo America Latina, l’impiego di 9 persone su 25 (attualmente 5) nel settore ALTRI SERVIZI </a:t>
            </a:r>
            <a:r>
              <a:rPr b="0" i="1" lang="it-IT" sz="1200" spc="-1" strike="noStrike">
                <a:solidFill>
                  <a:srgbClr val="000000"/>
                </a:solidFill>
                <a:latin typeface="Arial"/>
              </a:rPr>
              <a:t>(su sfondo grigio)</a:t>
            </a:r>
            <a:r>
              <a:rPr b="0" lang="it-IT" sz="1200" spc="-1" strike="noStrike">
                <a:solidFill>
                  <a:srgbClr val="000000"/>
                </a:solidFill>
                <a:latin typeface="Arial"/>
              </a:rPr>
              <a:t>, in più di un caso nell’ambito dello spettacolo.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inimo (in soli 3 casi su 27 complessivi di chi vi lavora attualmente) è l’impiego in un ALTRO SETTORE INDUSTRIALE rispetto a quello odierno, così come l’impiego nel settore della SANITA’ PROFESSIONALE (6 casi, di cui 2 attualment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NB: in ogni cella della tabella vengono riportati, prima, il numero di coloro che hanno lavorato almeno una volta in quel settore e, poi, tra parentesi e in corsivo, quanti vi lavorino attualmente (vedi 2.4a).</a:t>
            </a:r>
            <a:endParaRPr b="0" lang="en-US" sz="1200" spc="-1" strike="noStrike">
              <a:solidFill>
                <a:srgbClr val="000000"/>
              </a:solidFill>
              <a:latin typeface="Arial"/>
            </a:endParaRPr>
          </a:p>
        </p:txBody>
      </p:sp>
      <p:sp>
        <p:nvSpPr>
          <p:cNvPr id="79"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 FORMAZIONE SVOLT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ricorso alla formazione, in quantità e qualità, è genericamente limitato a una minoranza di intervista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ivamente dalle risposte si può desumere ch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 gruppi di CINA e EX-URSS la formazione ha coinvolto 9-10 persone su 25, esclusivamente sulla lingua italia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l’AFRICA SUBSAHARIANA il ricorso alla formazione è il più alto tra i gruppi, 11 persone su 25, equamente coinvolte in corsi professionali e di lingu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 l’AMERICA LATINA la quota di “formati” è leggermente inferiore (7 su 25), ma quasi esclusivamente in ambito profession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ANIA e NORDAFRICA sono i gruppi con il minor numero di persone oggetto di formazione (rispettivamente 5 e 3) ed esclusivamente di tipo professiona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 evidenziato che, mentre la durata dei corsi frequentati, al di là della natura, è quasi sempre di almeno 6 mesi, per il solo gruppo CINA il rapporto è opposto: dei 9 cinesi che hanno seguito un corso (esclusivamente di lingua italiana) solo in un caso si è protratta questa esperienza formativa per almeno 6 mesi. </a:t>
            </a:r>
            <a:endParaRPr b="0" lang="en-US" sz="1600" spc="-1" strike="noStrike">
              <a:solidFill>
                <a:srgbClr val="000000"/>
              </a:solidFill>
              <a:latin typeface="Arial"/>
            </a:endParaRPr>
          </a:p>
        </p:txBody>
      </p:sp>
      <p:sp>
        <p:nvSpPr>
          <p:cNvPr id="82"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 CONTATTI A CONFRONTO</a:t>
            </a:r>
            <a:br>
              <a:rPr sz="2000"/>
            </a:br>
            <a:r>
              <a:rPr b="1" lang="en-US" sz="2000" spc="-1" strike="noStrike">
                <a:solidFill>
                  <a:srgbClr val="000000"/>
                </a:solidFill>
                <a:latin typeface="Arial"/>
              </a:rPr>
              <a:t>NELLA RICERCA DI LAVORO E ABITAZION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84"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onendo a confronto i dati aggregati sui contatti nella ricerca di lavoro (vedi 2.5) e abitazione (vedi 2.3), si può tentare di stabilire una gerarchia nell’utilità percepita dei processi di socializzazione (con connazionali e/o con italiani), dell’interazione col datore di lavoro e/o con altri intermediari (enti, istituzioni e associazioni pubbliche o private) e del ruolo riconosciuto alla propria iniziativa persona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r con motivazioni diverse, questa analisi rivela analogie sorprendenti tra alcune coppie di gruppi.</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NA e EX-URSS presentano valori quasi identici:</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l’importanza nettamente preponderante assegnata ai contatti connazionali (più nella ricerca del lavoro che dell’abitazio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l’utilità intermedia, eppure la più alta tra i gruppi, riconosciuta al datore di lavoro (nella ricerca dell’abitazio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 ruolo estremamente minimo riconosciuto ad altri intermediari;</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n uniche differenze la maggiore utilità (in entrambi i casi, sì bassa come valore assoluto ma sopra la media tra i gruppi) assegnata dal gruppo Cina all’iniziativa personale (specie nella ricerca del lavoro) e dal gruppo Ex-Urss ai contatti italiani (sempre nella ricerca del lavoro).</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alogie ancora più spiccate accomunano ALBANIA e AMERICA LATINA:</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nche qui l’importanza maggiore è assegnata ai contatti connazionali (tanto più per il lavoro che per l’abitazione), ma in modo meno marcato rispetto ai due gruppi precedenti;</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i poco inferiore è l’utilità percepita dei contatti italiani (leggermente più importanti nella ricerca dell’abitazione secondo il gruppo America Latina);</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eno avvertita è l’utilità dell’iniziativa personale (nettamente nella ricerca del lavoro, per entrambi) e di altri intermediari (per entrambi, nettamente nella ricerca dell’abitazio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inimo è il ruolo riconosciuto al datore di lavoro.</a:t>
            </a:r>
            <a:endParaRPr b="0" lang="en-US" sz="10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altri due gruppi, NORDAFRICA  e AFRICA SUBSAHARIANA, rivelano invece percezioni nettamente diversi, dagli altri e tra loro:</a:t>
            </a:r>
            <a:endParaRPr b="0" lang="en-US" sz="12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il Nordafrica il ruolo più importante è quello dell’iniziativa personale (soprattutto nella ricerca del lavoro), quasi totalmente disconosciuta invece dai secondi;</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entre per il Nordafrica è trascurabile, il gruppo Africa Subsahariana è quello che molto più marcatamente riconosce l’utilità di altri intermediari (sia per il lavoro che per l’abitazione), ponendoli addirittura al primo posto assieme ai contatti connazionali (che invece i nordafricani valutano meno utili della loro iniziativa personal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feriore (leggermente per i nordafricani, più nettamente per il gruppo subsahariano) è l’utilità riconosciuta ai contatti italiani (in egual misura, sostanzialmente, per lavoro e abitazione);</a:t>
            </a:r>
            <a:endParaRPr b="0" lang="en-US" sz="1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inima (per il Nordafrica) o addirittura nulla (per l’Africa Subsahariana) è l’importanza assegnata al datore di lavoro.</a:t>
            </a:r>
            <a:endParaRPr b="0" lang="en-US" sz="1000" spc="-1" strike="noStrike">
              <a:solidFill>
                <a:srgbClr val="000000"/>
              </a:solidFill>
              <a:latin typeface="Arial"/>
            </a:endParaRPr>
          </a:p>
        </p:txBody>
      </p:sp>
      <p:sp>
        <p:nvSpPr>
          <p:cNvPr id="85"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a LA FAMIGL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87" name="PlaceHolder 2"/>
          <p:cNvSpPr>
            <a:spLocks noGrp="1"/>
          </p:cNvSpPr>
          <p:nvPr>
            <p:ph/>
          </p:nvPr>
        </p:nvSpPr>
        <p:spPr>
          <a:xfrm>
            <a:off x="468360" y="1267920"/>
            <a:ext cx="8229600" cy="50403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tutti i gruppi, la presenza di un legame è la situazione che va nettamente per la maggio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fferenze più o meno risicate stacca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rdafrica e America Latina dagli altri 4 gruppi, per una quota più significativa (rispettivamente 6 e 7) di legami “non ufficiali” rispetto alle UNIONI MATRIMONIALI (esclusive per Albania e Africa Subsahariana, quasi per Cina e Ex-Urs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merica Latina dagli altri 5 gruppi, perché è l’unico in cui è quasi paritario il rapporto tra PARTNER ITALIANO O CONNAZIONALE (per gli altri le unioni con italiani o di altra nazionalità sono r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iù disomogenea è la verifica del luogo DOVE VIVONO i componenti della coppi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d un estremo si colloca il gruppo Albania, con 17 persone sulle 20 legate che vivono in Italia assieme al loro partner connaziona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misura minore, ma sempre maggioritaria, lo stesso avviene per il Nordafrica (10 su 16 legati vivono in Italia assieme al loro partner connazional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l gruppo Cina vi è quasi equilibrio (10 e 8) tra chi vive in Italia assieme al proprio partner connazionale e chi invece vive separato dal partner connazionale che invece abita in patri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ultima situazione di separazione da una famiglia in patria è invece quella tipica per i gruppi Ex-Urss e Africa Subsahariana (per 12 persone in ambedu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lto meno netta è la situazione del gruppo America Latina, con leggera predominanza della convivenza con partner italiano e, tra chi ha un partner connazionale, della separazione (addirittura in un terzo paese) sulla convivenza qui in Italia.</a:t>
            </a:r>
            <a:endParaRPr b="0" lang="en-US" sz="1400" spc="-1" strike="noStrike">
              <a:solidFill>
                <a:srgbClr val="000000"/>
              </a:solidFill>
              <a:latin typeface="Arial"/>
            </a:endParaRPr>
          </a:p>
        </p:txBody>
      </p:sp>
      <p:sp>
        <p:nvSpPr>
          <p:cNvPr id="88"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0b LA FAMIGL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9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prescindere dal numero medio di figli (nettamente più alto, 3, per il gruppo Africa Subsahariana), la maggior parte degli individui di ogni gruppo è genitore (salvo che per i Nordafricani, solo 9 su 25).</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erificando se e come gli eventuali figli interagiscano con il territorio riminese, emerge ch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il gruppo EX-URSS è quello con il maggior numero di genitori (23 su 25), questo è anche quello che più si è staccato dai propri figli (solo in 2 casi i figli vivono qui a Rimini e come adulti, dato che qui lavorano piuttosto che frequentare la scuol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trettanto nettamente definito è anche il gruppo ALBANIA, dove gran parte ha figli (20 su 25), non nati qui a Rimini (solo 3 su 20) ma qui residenti (per 19 su 20) e soprattutto interagendo col territorio (17 genitori su 20 hanno figli che qui frequentano la scuola, 7 su 20 che qui lavorano: in ambedue i casi sono quote largamente superiori agli altri grupp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i gruppi AMERICA LATINA e NORDAFRICA, per quanto la condizione di genitore sia meno diffusa che negli altri gruppi, tra questi è maggioritaria la condizione di genitore con prole nata e cresciuta in Itali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 contrario, per i gruppi CINA e soprattutto AFRICA SUBSAHARIANA, dove più è diffusa la condizione di genitore, è maggioritaria la condizione opposta di genitore con prole altrove (nettamente, per il secondo gruppo, con una più alta quota di figli trasferiti qui dopo la nascita, per il gruppo Cin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1 LA RELIGION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93"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la religione, coniugando fede professata e pratica, si può distinguere t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i a religione egemon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asi integralmente praticanti, come l’AFRICA SUBSAHARIANA (con 20 musulmani su 25, di cui 18 si professano praticanti, la quota più alta tra i gruppi);</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quanime tra praticanti e non praticanti, come NORDAFRICA (se tutti e 25 gli intervistati si dichiarano musulmani, solo 9 anche praticanti), AMERICA LATINA (vi sono 22 cristiani cattolici su 25, ma la metà esatta, 11, si dichiara praticante) e EX-URSS (su 21 cristiani non cattolici solo 8 sono praticanti);</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ruppi con più religioni o condizioni…</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NIA, dove sono diffuse due religioni principali (13 musulmani e 10 cristiani cattolici) e la quota di praticanti, pur non essendo ai livelli altissimi dell’Africa Subsahariana, è del 70-75%;</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NA, dove, oltre a 11 persone di religione buddista (di cui poco più della metà è praticante), la quota prevalente è quella dei “non credenti” (12, mentre tra gli altri gruppi la quota di non credenti è minima o assente).</a:t>
            </a:r>
            <a:endParaRPr b="0" lang="en-US" sz="1400" spc="-1" strike="noStrike">
              <a:solidFill>
                <a:srgbClr val="000000"/>
              </a:solidFill>
              <a:latin typeface="Arial"/>
            </a:endParaRPr>
          </a:p>
        </p:txBody>
      </p:sp>
      <p:sp>
        <p:nvSpPr>
          <p:cNvPr id="94"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2 TEMPO LIBER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96"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nalisi del tempo libero può sommariamente valutare diffusione e impatto delle varie reti sociali di ogni grupp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principali sono:</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AMICI CONNAZIONALI </a:t>
            </a:r>
            <a:r>
              <a:rPr b="0" i="1" lang="it-IT" sz="1200" spc="-1" strike="noStrike">
                <a:solidFill>
                  <a:srgbClr val="000000"/>
                </a:solidFill>
                <a:latin typeface="Arial"/>
              </a:rPr>
              <a:t>(su sfondo arancione)</a:t>
            </a:r>
            <a:r>
              <a:rPr b="0" lang="it-IT" sz="1200" spc="-1" strike="noStrike">
                <a:solidFill>
                  <a:srgbClr val="000000"/>
                </a:solidFill>
                <a:latin typeface="Arial"/>
              </a:rPr>
              <a:t>, predominante per tutti i gruppi e con forte diffusione (da 15 a 22, su 25), ad eccezione del gruppo Nordafrica che presenta valori assoluti nettamente inferiori (6);</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LA FAMIGLIA </a:t>
            </a:r>
            <a:r>
              <a:rPr b="0" i="1" lang="it-IT" sz="1200" spc="-1" strike="noStrike">
                <a:solidFill>
                  <a:srgbClr val="000000"/>
                </a:solidFill>
                <a:latin typeface="Arial"/>
              </a:rPr>
              <a:t>(su sfondo rosso)</a:t>
            </a:r>
            <a:r>
              <a:rPr b="0" lang="it-IT" sz="1200" spc="-1" strike="noStrike">
                <a:solidFill>
                  <a:srgbClr val="000000"/>
                </a:solidFill>
                <a:latin typeface="Arial"/>
              </a:rPr>
              <a:t>, predominante per il Nordafrica (14 su 25), ugualmente maggioritaria per Albania (21) e America Latina (15), importante per Cina (11), più limitata come opzione per Africa Subsahariana (6) e Ex-Urss (4).</a:t>
            </a:r>
            <a:endParaRPr b="0" lang="en-US" sz="1200" spc="-1" strike="noStrike">
              <a:solidFill>
                <a:srgbClr val="000000"/>
              </a:solidFill>
              <a:latin typeface="Arial"/>
            </a:endParaRPr>
          </a:p>
          <a:p>
            <a:pPr lvl="2" marL="114300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ima di descrivere le altre reti di socializzazione, va rilevata una diversa entità e polarizzazione delle risposte, riassumibile in due tendenze:</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lla dell’ALBANIA, con valori molto alti e diffusi su quasi tutte le alternative assieme (la stessa tendenza è, meno marcata, presente per il gruppo AMERICA LATINA);</a:t>
            </a:r>
            <a:endParaRPr b="0" lang="en-US" sz="1000" spc="-1" strike="noStrike">
              <a:solidFill>
                <a:srgbClr val="000000"/>
              </a:solidFill>
              <a:latin typeface="Arial"/>
            </a:endParaRPr>
          </a:p>
          <a:p>
            <a:pPr lvl="2" marL="1143000" indent="-228600">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lla del NORDAFRICA, con valori molto bassi (salvo che per la famiglia) e localizzati su reti specifiche, dunque escludendo le altre (anche qui e pure ora meno marcata, la tendenza è comune a, nell’ordine, EX-URSS, CINA e AFRICA SUBSAHARIANA, ma tutti con “amici connazionali” come prima rete sociale).</a:t>
            </a:r>
            <a:endParaRPr b="0" lang="en-US" sz="1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ltre reti sociali, di minor diffusione e impatto, sono:</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I PARENTI </a:t>
            </a:r>
            <a:r>
              <a:rPr b="0" i="1" lang="it-IT" sz="1200" spc="-1" strike="noStrike">
                <a:solidFill>
                  <a:srgbClr val="000000"/>
                </a:solidFill>
                <a:latin typeface="Arial"/>
              </a:rPr>
              <a:t>(su sfondo giallo)</a:t>
            </a:r>
            <a:r>
              <a:rPr b="0" lang="it-IT" sz="1200" spc="-1" strike="noStrike">
                <a:solidFill>
                  <a:srgbClr val="000000"/>
                </a:solidFill>
                <a:latin typeface="Arial"/>
              </a:rPr>
              <a:t>, rete molto presente nel gruppo Albania (16), nettamente inferiore tra gli altri (Africa Subsahariana 7, ma unico caso in cui il valore è più alto che per la famiglia, Cina 6, America Latina 5, Ex-Urss 4), quasi nullo (1) per il Nordafrica;</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AMICI, ITALIANI </a:t>
            </a:r>
            <a:r>
              <a:rPr b="0" i="1" lang="it-IT" sz="1200" spc="-1" strike="noStrike">
                <a:solidFill>
                  <a:srgbClr val="000000"/>
                </a:solidFill>
                <a:latin typeface="Arial"/>
              </a:rPr>
              <a:t>(su sfondo blu)</a:t>
            </a:r>
            <a:r>
              <a:rPr b="0" lang="it-IT" sz="1200" spc="-1" strike="noStrike">
                <a:solidFill>
                  <a:srgbClr val="000000"/>
                </a:solidFill>
                <a:latin typeface="Arial"/>
              </a:rPr>
              <a:t>, rete diffusa significativamente nel gruppo Albania (11, ma dopo tutte le altre reti sociali di connazionali, familiari e parentali), Ex-Urss (8, dove invece è la seconda per importanza) e Africa Subsahariana (8, prima di famiglia e parenti), meno rilevante tra America Latina (6), Nordafrica (4) e Cina (4); </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 AMICI, IMMIGRATI DI ALTRA NAZIONALITA’ </a:t>
            </a:r>
            <a:r>
              <a:rPr b="0" i="1" lang="it-IT" sz="1200" spc="-1" strike="noStrike">
                <a:solidFill>
                  <a:srgbClr val="000000"/>
                </a:solidFill>
                <a:latin typeface="Arial"/>
              </a:rPr>
              <a:t>(su sfondo verde)</a:t>
            </a:r>
            <a:r>
              <a:rPr b="0" lang="it-IT" sz="1200" spc="-1" strike="noStrike">
                <a:solidFill>
                  <a:srgbClr val="000000"/>
                </a:solidFill>
                <a:latin typeface="Arial"/>
              </a:rPr>
              <a:t>, rete significativa per Africa Subsahariana (11, la seconda per diffusione) e America Latina (10, la terza), rilevante per Nordafrica (6, ma è anche l’unico gruppo in cui l’entità numerica è la stessa che per gli amici connazionali), meno per Albania (6), addirittura nulla per Cina e Ex-Urs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 SOLO, valore assente o marginale per quasi tutti i gruppi, tranne che per Cina (5) e Nordafrica (3).</a:t>
            </a:r>
            <a:endParaRPr b="0" lang="en-US" sz="1200" spc="-1" strike="noStrike">
              <a:solidFill>
                <a:srgbClr val="000000"/>
              </a:solidFill>
              <a:latin typeface="Arial"/>
            </a:endParaRPr>
          </a:p>
        </p:txBody>
      </p:sp>
      <p:sp>
        <p:nvSpPr>
          <p:cNvPr id="97"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CONDIZIONE PROFESSIONALE ORIGINAR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45"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la condizione professional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NA e EX-URSS presentano una quasi totale occupazione (24 su 25), però…</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primo caso si ha la più larga presenza di lavoratori autonomi (10 su 24), specie nel settore del commercio/artigianato (8), e soprattutto i valori più alti tra tutti i gruppi per gli occupati in pesca/agricoltura (6) e industria (4);</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caso dell’Ex-Urss gli occupati sono quasi esclusivamente lavoratori dipendenti (21 su 24) e in maggioranza (13) in servizi specifici del settore pubblico (sanità, scuola, amministrazione, esercito, arte) o per il resto nell’ambito del commercio/artigianato.</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FRICA SUBSAHARIANA e AMERICA LATINA sono entrambi a un livello intermedio di occupazione, ma…</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primi sono in gran parte lavoratori autonomi (14 su 21, il valore più alto tra i gruppi) e nel settore commercio/artigianato (12 su 21, anch’esso il valore maggiore) e pur significativi sono (anche se inferiori a quelli del gruppo cinese) gli occupati in pesca/agricoltura (4);</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secondi, equamente distribuiti tra autonomi e dipendenti, con una presenza degna di nota di studenti (4), sono l’altro gruppo, assieme a quello Ex-Urss in cui la voce “Altri servizi” supera quella altrimenti maggioritaria degli occupati in commercio/artigianato (ma senza scendere nel dettaglio).</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BANIA e NORDAFRICA sono i gruppi con il minor numero di occupati (solo 11 per il Nordafrica e addirittura 8 per l’Albania), ma...</a:t>
            </a:r>
            <a:endParaRPr b="0"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 nel caso dell’Albania, ciò è dovuto ad un alto numero di disoccupati (6) e soprattutto di occupazioni non specificate (8);</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l Nordafrica, la quota di disoccupati è largamente predominante (12, il valore nettamente più alto tra i gruppi).</a:t>
            </a:r>
            <a:endParaRPr b="0" lang="en-US" sz="1400" spc="-1" strike="noStrike">
              <a:solidFill>
                <a:srgbClr val="000000"/>
              </a:solidFill>
              <a:latin typeface="Arial"/>
            </a:endParaRPr>
          </a:p>
        </p:txBody>
      </p:sp>
      <p:sp>
        <p:nvSpPr>
          <p:cNvPr id="46"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3 LA LINGUA ITALIAN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99" name="PlaceHolder 2"/>
          <p:cNvSpPr>
            <a:spLocks noGrp="1"/>
          </p:cNvSpPr>
          <p:nvPr>
            <p:ph/>
          </p:nvPr>
        </p:nvSpPr>
        <p:spPr>
          <a:xfrm>
            <a:off x="468000" y="1267920"/>
            <a:ext cx="8280360" cy="49690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livello di conoscenza della lingua italiana permette di valutare l’autonomia potenziale nell’interazione con il territorio e di articolare (distinguendo tra comprendere, parlare, leggere e scrivere) uno o più livelli preferenziali rispetto ad altr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CINA è di gran lunga il gruppo con le maggiori difficoltà con la lingua italiana: solo 2 su 25 la comprendono e parlano bene, addirittura uno è in grado di leggerla e scriverla.</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gli altri gruppi è invece maggioritaria, anche se in modo differente, la buona conoscenza della lingua italian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 le persone del gruppo NORDAFRICA, molto diffusa è la capacità di comprendere (18 su 25), parlare (16) e leggere (15) la lingua italiana, nettamente più bassa quella di scriverla (5).</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eno diffusa per l’AFRICA SUBSAHARIANA, la capacità di parlare e comprendere bene la lingua italiana riguarda più o meno metà campione (rispettivamente 13 e 12 su 25), ma molto meno frequente è, anche qui, quella di scriverla (4) e pure, a differenza dei nordafricani, di leggerla (7).</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 situazione analoga alla precedente è presente nel gruppo ALBANIA: comprendere e parlare bene vale per metà del campione, solo un quarto riesce a scrivere e leggere altrettanto bene la lingua italian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AMERICA LATINA è quello, assieme al Nordafrica, con il maggior numero di persone in grado di comprendere bene la lingua italiana (18 su 25), mentre più difficoltà si hanno nel parlarla e leggerla (nella stessa misura, solo 12 su 25 vi riescono bene) e ancora di più nello scriverla (9 su 25 lo sanno fare ben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 un caso a parte quello dell’EX-URSS, perché la maggioranza, più o meno, sa sia comprendere (14) che parlare (11) bene la lingua italiana, ma si incontrano ancora meno difficoltà (a differenza di tutti gli altri gruppi) tanto nel leggerla (15) che egualmente e soprattutto nello scriverla (15).</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2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a L’INFORMAZIONE TRAMITE I MASS MED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02" name="PlaceHolder 2"/>
          <p:cNvSpPr>
            <a:spLocks noGrp="1"/>
          </p:cNvSpPr>
          <p:nvPr>
            <p:ph/>
          </p:nvPr>
        </p:nvSpPr>
        <p:spPr>
          <a:xfrm>
            <a:off x="457200" y="1197000"/>
            <a:ext cx="8229600" cy="5139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nalisi della frequenza informativa sui principali mass media tradizionali (televisione, giornale e radio; italiani e/o del proprio paese e/o nella propria lingua) evidenzia ch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TELEVISIONE è il media con il quale tutti i gruppi hanno il rapporto informativo più assiduo (in almeno 21 casi su 25, salvo che per il Nordafrica dove la quota scende a 15, comunque il valore più alto per quel gruppo);</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n GIORNALE e RADIO i gruppi a non avere un rapporto informativo quasi altrettanto assiduo sono ancora Nordafrica (il gruppo che in assoluto meno attinge a fonti mediatiche), Ex-Urss e Cina (ma solo con la radi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rca le diversità tra i gruppi:</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MERICA LATINA, ALBANIA e, in misura minore, AFRICA SUBSAHARIANA sono infatti gruppi con il rapporto più continuativo e generalizzato con le informazioni dai mass media, ma…</a:t>
            </a:r>
            <a:endParaRPr b="0" lang="en-US" sz="1400" spc="-1" strike="noStrike">
              <a:solidFill>
                <a:srgbClr val="000000"/>
              </a:solidFill>
              <a:latin typeface="Arial"/>
            </a:endParaRPr>
          </a:p>
          <a:p>
            <a:pPr lvl="1" marL="735480" indent="-2829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primi, questo avviene, in larga maggioranza, quasi esclusivamente da media italiani;</a:t>
            </a:r>
            <a:endParaRPr b="0" lang="en-US" sz="1200" spc="-1" strike="noStrike">
              <a:solidFill>
                <a:srgbClr val="000000"/>
              </a:solidFill>
              <a:latin typeface="Arial"/>
            </a:endParaRPr>
          </a:p>
          <a:p>
            <a:pPr lvl="1" marL="735480" indent="-2829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secondi, solo nel caso della televisione, è maggioritaria la quota di chi ascolta telegiornali sia italiani che del proprio paese;</a:t>
            </a:r>
            <a:endParaRPr b="0" lang="en-US" sz="1200" spc="-1" strike="noStrike">
              <a:solidFill>
                <a:srgbClr val="000000"/>
              </a:solidFill>
              <a:latin typeface="Arial"/>
            </a:endParaRPr>
          </a:p>
          <a:p>
            <a:pPr lvl="1" marL="735480" indent="-2829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terzi, sempre per la televisione, per quanto non preponderante è comunque discreto (8 su 25) il numero di chi attinge esclusivamente da un telegiornale nella propria lingua, mentre il confronto informativo tra fonti analoghe avviene più sulla radio che sulla televisione;</a:t>
            </a:r>
            <a:endParaRPr b="0" lang="en-US" sz="12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 il NORDAFRICA è, all’opposto, il gruppo con il rapporto meno assiduo con le fonti informative mediatiche (specie per giornale e soprattutto radio), è però anche quello dalla fruizione televisiva meno legata esclusivamente al telegiornale italiano e più aperta a una molteplicità di fonti (dal proprio paese, da un terzo paese nella propria lingua, in una terza lingua);</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EX-URSS è informato quasi esclusivamente da telegiornali italiani (per 21 su 25), molto meno continuativo è il rapporto con radio e giornale (quest’ultimo però è l’altro media, oltre alla tv, dove, in egual misura, 3 casi su 25, avviene il confronto tra fonti italiane e del proprio paes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CINA ha invece un rapporto informativo molto assiduo con televisione e giornale (quasi nullo con la radio), ma concentrato in larga, o addirittura esclusiva, parte con quelli del proprio paese (20 su 25 leggono solo giornali del proprio paese e sono appena 4 a vedere regolarmente e solamente telegiornali italiani).</a:t>
            </a:r>
            <a:endParaRPr b="0" lang="en-US" sz="1400" spc="-1" strike="noStrike">
              <a:solidFill>
                <a:srgbClr val="000000"/>
              </a:solidFill>
              <a:latin typeface="Arial"/>
            </a:endParaRPr>
          </a:p>
        </p:txBody>
      </p:sp>
      <p:sp>
        <p:nvSpPr>
          <p:cNvPr id="103"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4b L’INFORMAZIONE TRAMITE I MASS MED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0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effetto della frequenza e scelta delle fonti informative mediatiche, associata al grado di conoscenza della lingua italiana, si può ipotizzare il loro livello di comprensione (quando italiane) e la relazione tra queste e quelle del proprio paes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qui si può desumere ch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della CINA è l’unico in cui non vi sono persone “non informate” (o più precisamente “non lontane” da tutti i massmedia), ma è anche quello in cui la quasi totalità (in 24 casi su 25) viene informata solo da uno o più media nella propria lingua, perché, a prescindere dalla fruizione, vi è l’incapacità generalizzata a comprendere la lingua italian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eno polarizzata è la situazione per il gruppo AFRICA SUBSAHARIANA, dove è comunque prevalente, per quasi metà campione (10), la stessa situazione di “informazione esclusiva presso media nella propria lingu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NORDAFRICA è invece il gruppo che comprende la quota più alta, 12 su 25, di persone non informate dai media o non in grado di comprenderl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BANIA e EX-URSS hanno anch’essi, entrambi, un discreto numero (rispettivamente 9 e 8) di persone non informate dai media o non in grado di comprenderli, però…</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primo caso, l’Albania, è ugualmente preponderante la quota di chi, comprendendole ambedue, viene informato da almeno 2 fonti, sia italiane che nella propria lingua (questo è il gruppo con il maggior numero di persone in questa situazione di massimo confronto tra le immagini dell’Italia e del proprio paese);</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secondo caso, l’Ex-Urss, è invece superiore e quasi maggioritaria, per 10 persone su 25, la quota di chi viene informato, comprendendoli, solo da uno o più media italiani;</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dell’AMERICA LATINA è quello in cui è più accentuata quest’ultima tendenza, dove, cioè, per 14 persone su 25, il contatto con i media informativi, comprendendoli, è esclusivamente con quelli italian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5 I TRASPORTI</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l’autonomia nella mobilità sul territorio, si può distinguere t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gruppi di NORDAFRICA, AFRICA SUBSAHARIANA e ALBANIA dove il possesso di una patente valida sul territorio italiano e la proprietà di un automobile o furgone è la situazione maggiorita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altri gruppi, in cui è invece più o meno minoritaria, con alcune distinzioni…</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l’AMERICA LATINA il mezzo di trasporto proprio è comunque, quasi esclusivamente, l’automobil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la CINA, per quanto l’automobile sia posseduta solo da 5 persone su 25, altre 10 riescono a supplire, in ugual misura, con motorino o bicicletta;</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è invece proprio la bicicletta, per il gruppo EX-URSS, il proprio mezzo di trasporto, in 9 casi sui 12 di chi ne possiede uno. </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 RIMESSE DI DENAR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11"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 verifica dei canali utilizzati per le proprie rimesse di denaro può indicare le tendenze circa fiducia e praticità percepita verso le alternative istituzionali presenti sul territorio (come banca e/o posta), le imprese private di trasferimento internazionale fondi (come la Western Union) e il ricorso alla propria rete di amici e/o conoscenti.</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dagine mostra ch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gruppi AFRICA SUBSAHARIANA e ALBANIA sono quelli che, di gran lunga (per 19 su 25), più ricorrono alla mediazione di amici e conoscenti, ma…</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l primo, l’Africa Subsahariana, è quasi ugualmente marcato (sono infatti, anche qui, il gruppo che più vi ricorre) l’inoltro attraverso Western Unio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l secondo, l’Albania, gli altri canali hanno invece un peso inferiore;</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gruppi CINA e NORDAFRICA sono quelli in cui, più nettamente e quasi esclusivamente, si ricorre a banca e posta, ma…</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cinesi, l’inoltro avviene, in 14 casi su 14, tramite banca ed è anche assente, poi, il ricorso alla Western Union (va rilevato anche il numero più alto, 5 su 25, di coloro che non hanno rimesse da inoltrare);</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nordafricani (l’unico gruppo in cui ciò avvenga) l’inoltro è più diffuso via posta (trascurata invece, del tutto o quasi, da America Latina, Cina e Ex-Urss) che attraverso la banca ed è quasi nullo (un solo caso su 25) il ricorso ad amici e/o conoscenti;</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AMERICA LATINA ricorre in modo preponderante (15 su 25) alla Western Unio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EX-URSS è quello in cui vi è meno polarizzazione tra le alternative, con un equilibrio sostanziale nel ricorso ad amici/conoscenti, Western Union e banca (ma per nulla alla posta).</a:t>
            </a:r>
            <a:endParaRPr b="0" lang="en-US" sz="1400" spc="-1" strike="noStrike">
              <a:solidFill>
                <a:srgbClr val="000000"/>
              </a:solidFill>
              <a:latin typeface="Arial"/>
            </a:endParaRPr>
          </a:p>
        </p:txBody>
      </p:sp>
      <p:sp>
        <p:nvSpPr>
          <p:cNvPr id="112"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7 SPORTELLO IMMIGRATI E MEDICO DI BAS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14"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frequenza di accesso allo sportello immigrati evidenz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ccesso, “quando serve”, della maggioranza delle persone dei gruppi NORDAFRICA, CINA e AMERICA LATINA (per quanto un terzo degli intervistati di ciascun gruppo non vi ricorra ma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preponderanza, nel gruppo ALBANIA, di chi non vi accede mai (13 su 2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e tutte le persone dei gruppi EX-URSS e AFRICA SUBSAHARIANA accedono, quando serve, allo sportello immigrati (e, per quasi metà del campione subsahariano, 12 su 25, è un accesso abitudinario, almeno una o più volte al mes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i servizi sanitari, il possesso di un proprio medico di base è diffu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a quasi totalità del campione (da 21 a 24, su 25) dei gruppi AFRICA SUBSAHARIANA, NORDAFRICA, AMERICA LATINA e ALBAN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ggermente inferiore, ma comunque maggioritario, per CINA (17) e EX-URSS (1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 PROBLEMI SUL LAVORO</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17" name="PlaceHolder 2"/>
          <p:cNvSpPr>
            <a:spLocks noGrp="1"/>
          </p:cNvSpPr>
          <p:nvPr>
            <p:ph/>
          </p:nvPr>
        </p:nvSpPr>
        <p:spPr>
          <a:xfrm>
            <a:off x="457200" y="1196640"/>
            <a:ext cx="8229600" cy="504036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irca i problemi sorti sul lavoro, motivo principale a indurre alla migrazione, a partire dalla rosa di ipotesi prospettate con possibilità di più di una risposta affermativa, si rileva innanzitutto ch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EX-URSS e AMERICA LATINA il grado di disagio è quantitativamente più contenuto e concentrato su una rosa più ristretta di problemi;</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AFRICA SUBSAHARIANA è ugualmente localizzato su meno problemi, ma con dei picchi molto più accentuati su problemi specifici;</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CINA e soprattutto ALBANIA e NORDAFRICA, invece, si ha la percezione sia di una rosa più larga di problemi che di una loro maggiore intensità.</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 dettaglio, i problemi comunemente più avvertiti sul lavoro e diffusi tra i gruppi son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FATICA FISICA O LA TENSIONE NERVOSA </a:t>
            </a:r>
            <a:r>
              <a:rPr b="0" i="1" lang="it-IT" sz="1000" spc="-1" strike="noStrike">
                <a:solidFill>
                  <a:srgbClr val="000000"/>
                </a:solidFill>
                <a:latin typeface="Arial"/>
              </a:rPr>
              <a:t>(su sfondo arancione) </a:t>
            </a:r>
            <a:r>
              <a:rPr b="0" lang="it-IT" sz="1000" spc="-1" strike="noStrike">
                <a:solidFill>
                  <a:srgbClr val="000000"/>
                </a:solidFill>
                <a:latin typeface="Arial"/>
              </a:rPr>
              <a:t>, il principale per Africa Subsahariana (di gran lunga, 17 casi), Nordafrica (15) e Ex-Urss (9), secondo per importanza per Albania (11), molto meno rilevante per Cina (4) e America Latina (4);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LUNGHEZZA O IL TIPO DI ORARIO </a:t>
            </a:r>
            <a:r>
              <a:rPr b="0" i="1" lang="it-IT" sz="1000" spc="-1" strike="noStrike">
                <a:solidFill>
                  <a:srgbClr val="000000"/>
                </a:solidFill>
                <a:latin typeface="Arial"/>
              </a:rPr>
              <a:t>(su sfondo celeste)</a:t>
            </a:r>
            <a:r>
              <a:rPr b="0" lang="it-IT" sz="1000" spc="-1" strike="noStrike">
                <a:solidFill>
                  <a:srgbClr val="000000"/>
                </a:solidFill>
                <a:latin typeface="Arial"/>
              </a:rPr>
              <a:t>, il principale per Albania (nettamente, 16 casi), molto importante per Nordafrica (12) e Africa Subsahariana (10), più limitato, ma secondo per gravità, per Cina (9), Ex-Urss (6) e America Latina (5);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ALARIO TROPPO BASSO </a:t>
            </a:r>
            <a:r>
              <a:rPr b="0" i="1" lang="it-IT" sz="1000" spc="-1" strike="noStrike">
                <a:solidFill>
                  <a:srgbClr val="000000"/>
                </a:solidFill>
                <a:latin typeface="Arial"/>
              </a:rPr>
              <a:t>(su sfondo giallo)</a:t>
            </a:r>
            <a:r>
              <a:rPr b="0" lang="it-IT" sz="1000" spc="-1" strike="noStrike">
                <a:solidFill>
                  <a:srgbClr val="000000"/>
                </a:solidFill>
                <a:latin typeface="Arial"/>
              </a:rPr>
              <a:t>, il principale per Nordafrica (15) e Cina (11), importante per Albania (10), meno rilevante per Africa Subsahariana (4) e America Latina (3), addirittura assente per Ex-Urs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VORARE PIU’ ORE DI QUANTE NE APPAIANO SUL CONTRATTO </a:t>
            </a:r>
            <a:r>
              <a:rPr b="0" i="1" lang="it-IT" sz="1000" spc="-1" strike="noStrike">
                <a:solidFill>
                  <a:srgbClr val="000000"/>
                </a:solidFill>
                <a:latin typeface="Arial"/>
              </a:rPr>
              <a:t>(su sfondo blu)</a:t>
            </a:r>
            <a:r>
              <a:rPr b="0" lang="it-IT" sz="1000" spc="-1" strike="noStrike">
                <a:solidFill>
                  <a:srgbClr val="000000"/>
                </a:solidFill>
                <a:latin typeface="Arial"/>
              </a:rPr>
              <a:t>, il principale per America Latina (6), più esteso ma meno gerachicamente avvertito per Nordafrica (9), abbastanza rilevante per Africa Subsahariana (5), minimo per Cina (2), assente per Albania ed Ex-Urs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iù legati a gruppi specifici, ma discretamente importanti sono anch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MANCANZA DI SODDISFAZIONE PERSONALE, molto esteso per Albania (8), rilevante per Nordafrica (5) e America Latina (4);</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DIFFICOLTA’ A COMPRENDERE GLI ORDINI E LE RICHIESTE DEI SUPERIORI, anch’esso molto esteso per Albania (8), rilevante per Cina (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ilevanti sono anch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PRECARIETA’ DEL RAPPORTO DI LAVORO, per America Latina (5);</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IRREGOLARITA’ DEL RAPPORTO DI LAVORO, per Cina (4);</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DIFFICOLTA’ A FARE CARRIERA PER UNO STRANIERO, per Albania (6) e America Latina (4);</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DIFFICOLTA’ PER IL RICONOSCIMENTO DEL PROPRIO TITOLO DI STUDIO, per Albania (6);</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MANCANZA DI UNA FORMAZIONE ADEGUATA, per Ex-Urss (4);</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 RISCHI PER LA SALUTE E L’INCOLUMITA’ PERSONALE, per Albania (4) e Africa Subsahariana (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iù marginali son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DIFFICOLTA’ NEI RAPPORTI CON I COMPAGNI DI LAVO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DIFFICOLTA’ NEI RAPPORTI CON I SUPERIOR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Va rimarcato, infine, il grave problema, in ambito lavorativo, delle MOLESTIE SESSUALI (complessivamente 3 casi, verso persone di Nordafrica e Ex-Urss) e dei MALTRATTAMENTI FISICI (per un cinese).</a:t>
            </a:r>
            <a:endParaRPr b="0" lang="en-US" sz="1000" spc="-1" strike="noStrike">
              <a:solidFill>
                <a:srgbClr val="000000"/>
              </a:solidFill>
              <a:latin typeface="Arial"/>
            </a:endParaRPr>
          </a:p>
        </p:txBody>
      </p:sp>
      <p:sp>
        <p:nvSpPr>
          <p:cNvPr id="118"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a VALUTAZIONE DELLE PROPRIE CAPACITA’ E COMPETENZ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2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e nel valutare l’utilità di studi ed esperienze pratiche, in patria e in Italia, si denotano molte differenze tra i gruppi, salvo il ruolo molto marginale riconosciuto uniformemente a studi e corsi svolti in Itali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 il gruppo dell’ALBANIA vi è il quasi unanime riconoscimento dell’utilità sia degli studi (22) e lavori (21) svolti nel proprio paese che, ancora di più (per 24 su 25, il valore più alto tra i gruppi), delle esperienze pratiche e lavorative in Itali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e il gruppo CINA riconosce nettamente come utili le esperienze in patria (studi 21 e pratiche 19), ma in termini minimi, però, le entrambe svolte in Italia (studi 1, pratiche 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tessa tendenza, preponderanza di entrambe le esperienze in patria rispetto a quelle in Italia, ma meno calcata, si rileva per il gruppo AMERICA LATIN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l gruppo EX-URSS, invece, le sole (e quasi esclusive) esperienze utili diffusamente riconosciute sono quelle pratiche svolte in patria (per 20 su 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FRICA SUBSAHARIANA è, all’opposto, quello che più assegna valore (in 18 casi su 25) alle esperienze pratiche e lavorative in Italia, con un netto divario sulle altre e la particolarità di essere quello che più riconosce come utili (in 6 casi) studi e corsi in Italia, sostanzialmente sullo stesso livello di entrambe le esperienze svolte in patri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ine, nettamente negativa è la percezione del gruppo del NORDAFRICA, dove è minimo il numero (non oltre i 4 casi) di chi riconosce come utile una qualsiasi esperienza, pratiche e specie di studio, in patria e soprattutto in Italia.</a:t>
            </a:r>
            <a:endParaRPr b="0" lang="en-US" sz="1400" spc="-1" strike="noStrike">
              <a:solidFill>
                <a:srgbClr val="000000"/>
              </a:solidFill>
              <a:latin typeface="Arial"/>
            </a:endParaRPr>
          </a:p>
        </p:txBody>
      </p:sp>
      <p:sp>
        <p:nvSpPr>
          <p:cNvPr id="121"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b VALUTAZIONE DELLE PROPRIE CAPACITA’ E COMPETENZ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23" name="PlaceHolder 2"/>
          <p:cNvSpPr>
            <a:spLocks noGrp="1"/>
          </p:cNvSpPr>
          <p:nvPr>
            <p:ph/>
          </p:nvPr>
        </p:nvSpPr>
        <p:spPr>
          <a:xfrm>
            <a:off x="468360" y="1268280"/>
            <a:ext cx="8229600" cy="4060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a tabella precedente si è messa in luce la tendenza generale (eccetto parzialmente il gruppo dell’Africa Subsahariana) a sminuire l’apporto dato da studi e corsi svolti in Itali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realtà occorre anche e soprattutto valutare quanti effettivamente siano incorsi in questa risorsa, prima di valutarne un eventuale apporto positiv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i fatti, se la quota di chi ha svolto corsi in Italia è minoritaria in tutti in gruppi, è anche vero ch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i gruppi AFRICA SUBSAHARIANA  e ALBANIA c’è una leggera prevalenza di chi li ha ritenuti util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gli altri (in particolare CINA e soprattutto EX-URSS, dove quasi meta’ del campione vi ha attinto) il giudizio è quasi unanimamente negativ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fine, va rimarcato che, all’esplicita domanda (rivolta a lavoratori dipendenti, a tempo indeterminato o determinato) circa l’utilità della formazione svolta presso l’impresa in cui si è attualmente impiegati, complessivamente solo 2 persone su 92 hanno risposto positivamente. </a:t>
            </a:r>
            <a:endParaRPr b="0" lang="en-US" sz="1600" spc="-1" strike="noStrike">
              <a:solidFill>
                <a:srgbClr val="000000"/>
              </a:solidFill>
              <a:latin typeface="Arial"/>
            </a:endParaRPr>
          </a:p>
        </p:txBody>
      </p:sp>
      <p:sp>
        <p:nvSpPr>
          <p:cNvPr id="124"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3 ALTRI PROBLEMI</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26"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etto al dettaglio dei problemi legati all’ambito lavorativo (già esposti, vedi 3.1), per quelli di altri ordine l’insofferenza è più intensa e diffusa tra tutti i gruppi (salvo che, come già per i problemi sul lavoro, per America Latina e soprattutto Ex-Ur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oblemi avvertiti generalmente come più gravi s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DIFFICOLTA’ A TROVARE CASA </a:t>
            </a:r>
            <a:r>
              <a:rPr b="0" i="1" lang="it-IT" sz="1200" spc="-1" strike="noStrike">
                <a:solidFill>
                  <a:srgbClr val="000000"/>
                </a:solidFill>
                <a:latin typeface="Arial"/>
              </a:rPr>
              <a:t>(su sfondo blu)</a:t>
            </a:r>
            <a:r>
              <a:rPr b="0" lang="it-IT" sz="1200" spc="-1" strike="noStrike">
                <a:solidFill>
                  <a:srgbClr val="000000"/>
                </a:solidFill>
                <a:latin typeface="Arial"/>
              </a:rPr>
              <a:t>, il principale problema per Nordafrica (24), Africa Subsahariana (22), Albania (19) e America Latina (13), comunque maggioritario per Cina (13), più limitato per Ex-Urss (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OSTO DELLA VITA TROPPO ALTO </a:t>
            </a:r>
            <a:r>
              <a:rPr b="0" i="1" lang="it-IT" sz="1200" spc="-1" strike="noStrike">
                <a:solidFill>
                  <a:srgbClr val="000000"/>
                </a:solidFill>
                <a:latin typeface="Arial"/>
              </a:rPr>
              <a:t>(su sfondo arancione)</a:t>
            </a:r>
            <a:r>
              <a:rPr b="0" lang="it-IT" sz="1200" spc="-1" strike="noStrike">
                <a:solidFill>
                  <a:srgbClr val="000000"/>
                </a:solidFill>
                <a:latin typeface="Arial"/>
              </a:rPr>
              <a:t>, il principale ancora per Nordafrica (24) e Albania (19), secondo per importanza per Africa Subsahariana (20) e Cina (16), meno avvertito da America Latina (9) e totalmente assente per Ex-Urss.</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altri problemi, talvolta ugualmente intensi altre meno, ma in ogni caso più localizzati, s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DURATA DEL PERMESSO DI SOGGIORNO </a:t>
            </a:r>
            <a:r>
              <a:rPr b="0" i="1" lang="it-IT" sz="1200" spc="-1" strike="noStrike">
                <a:solidFill>
                  <a:srgbClr val="000000"/>
                </a:solidFill>
                <a:latin typeface="Arial"/>
              </a:rPr>
              <a:t>(su sfondo azzurro)</a:t>
            </a:r>
            <a:r>
              <a:rPr b="0" lang="it-IT" sz="1200" spc="-1" strike="noStrike">
                <a:solidFill>
                  <a:srgbClr val="000000"/>
                </a:solidFill>
                <a:latin typeface="Arial"/>
              </a:rPr>
              <a:t>, il principale problema, quasi unanime (24), per il gruppo Cina, avvertito discretamente anche da America Latina (9) e Albania (6);</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OSTILITA’ E LA DIFFIDENZA DELLA POPOLAZIONE LOCALE VERSO GLI STRANIERI </a:t>
            </a:r>
            <a:r>
              <a:rPr b="0" i="1" lang="it-IT" sz="1200" spc="-1" strike="noStrike">
                <a:solidFill>
                  <a:srgbClr val="000000"/>
                </a:solidFill>
                <a:latin typeface="Arial"/>
              </a:rPr>
              <a:t>(su sfondo rosso)</a:t>
            </a:r>
            <a:r>
              <a:rPr b="0" lang="it-IT" sz="1200" spc="-1" strike="noStrike">
                <a:solidFill>
                  <a:srgbClr val="000000"/>
                </a:solidFill>
                <a:latin typeface="Arial"/>
              </a:rPr>
              <a:t>, problema molto avvertito da Nordafrica (20) e rilevante pure per Africa Subsahariana (10) e Cina (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DIFFICOLTA’ DOVUTE ALL’ECCESSIVA BUROCRAZIA </a:t>
            </a:r>
            <a:r>
              <a:rPr b="0" i="1" lang="it-IT" sz="1200" spc="-1" strike="noStrike">
                <a:solidFill>
                  <a:srgbClr val="000000"/>
                </a:solidFill>
                <a:latin typeface="Arial"/>
              </a:rPr>
              <a:t>(su sfondo verde)</a:t>
            </a:r>
            <a:r>
              <a:rPr b="0" lang="it-IT" sz="1200" spc="-1" strike="noStrike">
                <a:solidFill>
                  <a:srgbClr val="000000"/>
                </a:solidFill>
                <a:latin typeface="Arial"/>
              </a:rPr>
              <a:t>, tra i principali problemi del gruppo Albania (19), rilevante anche per Nordafrica (11), America Latina (10, il secondo per importanza) e Cina (9);</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ATTIVA QUALITA’ DELL’ABITAZIONE </a:t>
            </a:r>
            <a:r>
              <a:rPr b="0" i="1" lang="it-IT" sz="1200" spc="-1" strike="noStrike">
                <a:solidFill>
                  <a:srgbClr val="000000"/>
                </a:solidFill>
                <a:latin typeface="Arial"/>
              </a:rPr>
              <a:t>(su sfondo grigio)</a:t>
            </a:r>
            <a:r>
              <a:rPr b="0" lang="it-IT" sz="1200" spc="-1" strike="noStrike">
                <a:solidFill>
                  <a:srgbClr val="000000"/>
                </a:solidFill>
                <a:latin typeface="Arial"/>
              </a:rPr>
              <a:t>, maggioritario per Albania (15) e Nordafrica (15), percepito anche da Cina (7) e Africa Subsahariana (7);</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CARSA CONOSCENZA DELLA CULTURA E DELLE ABITUDINI ITALIANE </a:t>
            </a:r>
            <a:r>
              <a:rPr b="0" i="1" lang="it-IT" sz="1200" spc="-1" strike="noStrike">
                <a:solidFill>
                  <a:srgbClr val="000000"/>
                </a:solidFill>
                <a:latin typeface="Arial"/>
              </a:rPr>
              <a:t>(su sfondo giallo)</a:t>
            </a:r>
            <a:r>
              <a:rPr b="0" lang="it-IT" sz="1200" spc="-1" strike="noStrike">
                <a:solidFill>
                  <a:srgbClr val="000000"/>
                </a:solidFill>
                <a:latin typeface="Arial"/>
              </a:rPr>
              <a:t>, il principale problema, per quanto minoritario, per il gruppo Ex-Urss (9), avvertito notevolmente anche da Cina (14) e discretamente anche da America Latina (5) e Africa Subsahariana (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DIFFICOLTA’ AD ASSOLVERE I PROPRI OBBLIGHI RELIGIOSI </a:t>
            </a:r>
            <a:r>
              <a:rPr b="0" i="1" lang="it-IT" sz="1200" spc="-1" strike="noStrike">
                <a:solidFill>
                  <a:srgbClr val="000000"/>
                </a:solidFill>
                <a:latin typeface="Arial"/>
              </a:rPr>
              <a:t>(su sfondo marrone)</a:t>
            </a:r>
            <a:r>
              <a:rPr b="0" lang="it-IT" sz="1200" spc="-1" strike="noStrike">
                <a:solidFill>
                  <a:srgbClr val="000000"/>
                </a:solidFill>
                <a:latin typeface="Arial"/>
              </a:rPr>
              <a:t>, avvertite quasi esclusivamente, ma massicciamente, dal gruppo Africa Subsahariana (per 14 su 25);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CCESSIVA DISTANZA TRA ABITAZIONE E POSTO DI LAVORO, maggioritario per Nordafrica (13), rilevante anche per Albania (8) e Africa Subsahariana (7);</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PRESSIONE FISCALE, quasi maggioritario per Albania (12), percepita discretamente anche da Cina (5);</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fine, LA CARENZA DI SERVIZI SOCIALI RIVOLTI AGLI IMMIGRATI, avvertita da Cina (6), Nordafrica (3) e Africa Subsahariana (3), per nulla da Albania, Ex-Urss e America Latina.</a:t>
            </a:r>
            <a:endParaRPr b="0" lang="en-US" sz="1200" spc="-1" strike="noStrike">
              <a:solidFill>
                <a:srgbClr val="000000"/>
              </a:solidFill>
              <a:latin typeface="Arial"/>
            </a:endParaRPr>
          </a:p>
        </p:txBody>
      </p:sp>
      <p:sp>
        <p:nvSpPr>
          <p:cNvPr id="127"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3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MOTIVI DI EMIGRAZION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4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esposizione delle risposte (più di una, se necessario) ai motivi dell’emigrazione si è scelto di porle gerarchicamente, evidenziando quelle più comuni (se presenti in almeno 5 risposte su 2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IGLIORARE LA SITUAZIONE ECONOMICA </a:t>
            </a:r>
            <a:r>
              <a:rPr b="0" i="1" lang="it-IT" sz="1600" spc="-1" strike="noStrike">
                <a:solidFill>
                  <a:srgbClr val="000000"/>
                </a:solidFill>
                <a:latin typeface="Arial"/>
              </a:rPr>
              <a:t>(su sfondo arancione)</a:t>
            </a:r>
            <a:r>
              <a:rPr b="0" lang="it-IT" sz="1600" spc="-1" strike="noStrike">
                <a:solidFill>
                  <a:srgbClr val="000000"/>
                </a:solidFill>
                <a:latin typeface="Arial"/>
              </a:rPr>
              <a:t>, la motivazione nettamente più diffusa e determinante tra tutti i gruppi, tranne che per il Nordafri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ERCARE LAVORO </a:t>
            </a:r>
            <a:r>
              <a:rPr b="0" i="1" lang="it-IT" sz="1600" spc="-1" strike="noStrike">
                <a:solidFill>
                  <a:srgbClr val="000000"/>
                </a:solidFill>
                <a:latin typeface="Arial"/>
              </a:rPr>
              <a:t>(su sfondo viola)</a:t>
            </a:r>
            <a:r>
              <a:rPr b="0" lang="it-IT" sz="1600" spc="-1" strike="noStrike">
                <a:solidFill>
                  <a:srgbClr val="000000"/>
                </a:solidFill>
                <a:latin typeface="Arial"/>
              </a:rPr>
              <a:t>, il motivo quasi esclusivo per il Nordafrica, molto importante anche per gli altri gruppi, in termini più o meno rilevanti, escluso l’Ex-Urss dove è quasi ass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RE UN FUTURO MIGLIORE AI PROPRI FIGLI </a:t>
            </a:r>
            <a:r>
              <a:rPr b="0" i="1" lang="it-IT" sz="1600" spc="-1" strike="noStrike">
                <a:solidFill>
                  <a:srgbClr val="000000"/>
                </a:solidFill>
                <a:latin typeface="Arial"/>
              </a:rPr>
              <a:t>(su sfondo giallo)</a:t>
            </a:r>
            <a:r>
              <a:rPr b="0" lang="it-IT" sz="1600" spc="-1" strike="noStrike">
                <a:solidFill>
                  <a:srgbClr val="000000"/>
                </a:solidFill>
                <a:latin typeface="Arial"/>
              </a:rPr>
              <a:t>, importante per tutti i gruppi (molto per Albania e Cina), tranne che per America Latina e Nordafric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levanti (ed evidenziati anch’essi in grassetto), per qualche gruppo specifico, sono pu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OSCERE IL MONDO </a:t>
            </a:r>
            <a:r>
              <a:rPr b="0" i="1" lang="it-IT" sz="1600" spc="-1" strike="noStrike">
                <a:solidFill>
                  <a:srgbClr val="000000"/>
                </a:solidFill>
                <a:latin typeface="Arial"/>
              </a:rPr>
              <a:t>(su sfondo blu)</a:t>
            </a:r>
            <a:r>
              <a:rPr b="0" lang="it-IT" sz="1600" spc="-1" strike="noStrike">
                <a:solidFill>
                  <a:srgbClr val="000000"/>
                </a:solidFill>
                <a:latin typeface="Arial"/>
              </a:rPr>
              <a:t>, per Cina, America Latina, Africa Subsaharia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CONGIUNGERSI CON I FAMILIARI </a:t>
            </a:r>
            <a:r>
              <a:rPr b="0" i="1" lang="it-IT" sz="1600" spc="-1" strike="noStrike">
                <a:solidFill>
                  <a:srgbClr val="000000"/>
                </a:solidFill>
                <a:latin typeface="Arial"/>
              </a:rPr>
              <a:t>(su sfondo verde)</a:t>
            </a:r>
            <a:r>
              <a:rPr b="0" lang="it-IT" sz="1600" spc="-1" strike="noStrike">
                <a:solidFill>
                  <a:srgbClr val="000000"/>
                </a:solidFill>
                <a:latin typeface="Arial"/>
              </a:rPr>
              <a:t>, per Albania e Ci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MPARARE UN MESTIERE, UNA PROFESSIONE </a:t>
            </a:r>
            <a:r>
              <a:rPr b="0" i="1" lang="it-IT" sz="1600" spc="-1" strike="noStrike">
                <a:solidFill>
                  <a:srgbClr val="000000"/>
                </a:solidFill>
                <a:latin typeface="Arial"/>
              </a:rPr>
              <a:t>(su sfondo rosso)</a:t>
            </a:r>
            <a:r>
              <a:rPr b="0" lang="it-IT" sz="1600" spc="-1" strike="noStrike">
                <a:solidFill>
                  <a:srgbClr val="000000"/>
                </a:solidFill>
                <a:latin typeface="Arial"/>
              </a:rPr>
              <a:t>, per Africa Subsaharia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TRIMONIO </a:t>
            </a:r>
            <a:r>
              <a:rPr b="0" i="1" lang="it-IT" sz="1600" spc="-1" strike="noStrike">
                <a:solidFill>
                  <a:srgbClr val="000000"/>
                </a:solidFill>
                <a:latin typeface="Arial"/>
              </a:rPr>
              <a:t>(su sfondo azzurro)</a:t>
            </a:r>
            <a:r>
              <a:rPr b="0" lang="it-IT" sz="1600" spc="-1" strike="noStrike">
                <a:solidFill>
                  <a:srgbClr val="000000"/>
                </a:solidFill>
                <a:latin typeface="Arial"/>
              </a:rPr>
              <a:t>, per America La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4 AREE DI INTERVENTO PRIORITARI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29" name="PlaceHolder 2"/>
          <p:cNvSpPr>
            <a:spLocks noGrp="1"/>
          </p:cNvSpPr>
          <p:nvPr>
            <p:ph/>
          </p:nvPr>
        </p:nvSpPr>
        <p:spPr>
          <a:xfrm>
            <a:off x="468360" y="1268280"/>
            <a:ext cx="8229600" cy="52246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opo aver toccato la percezione dei problemi sul lavoro e altrove, l’auspicio di un’assistenza agli immigrati molto maggiore rispetto a quella attuale è presente massicciamente in quasi tutti i gruppi, eccetto il gruppo dell’Albania (forse anche perché meno coinvolto dalla domanda la cui risposta, a fine questionario, non era obbligatoria per la sua validità).</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asi ad ogni ipotesi prospettata di intervento l’auspicio è stato maggioritario, talvolta quasi unanime, da parte di ciascun gruppo, salvo che quello di Albania, appunto, e quello dell’Ex-Urss (già mostratosi in altre domande un campione più moderato nell’esprimere giudizi drastic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aree in cui più diffusamente e intensamente si richiede un intervento son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SSISTENZA ALLA RICERCA DI UN’ABITAZIONE </a:t>
            </a:r>
            <a:r>
              <a:rPr b="0" i="1" lang="it-IT" sz="1000" spc="-1" strike="noStrike">
                <a:solidFill>
                  <a:srgbClr val="000000"/>
                </a:solidFill>
                <a:latin typeface="Arial"/>
              </a:rPr>
              <a:t>(su sfondo arancione)</a:t>
            </a:r>
            <a:r>
              <a:rPr b="0" lang="it-IT" sz="1000" spc="-1" strike="noStrike">
                <a:solidFill>
                  <a:srgbClr val="000000"/>
                </a:solidFill>
                <a:latin typeface="Arial"/>
              </a:rPr>
              <a:t> è la necessità più avvertita da Africa Subsahariana (da tutto il campione, 25 su 25) e America Latina (22), la seconda da Nordafrica (23) e Ex-Urss (18), la quarta da Cina (17) e, seppur auspicata da solo 5 persone da 25, la terza dal gruppo Albani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n’altra priorità è quella del SERVIZIO DI INFORMAZIONI SULLA REALTA’ ITALIANA </a:t>
            </a:r>
            <a:r>
              <a:rPr b="0" i="1" lang="it-IT" sz="1000" spc="-1" strike="noStrike">
                <a:solidFill>
                  <a:srgbClr val="000000"/>
                </a:solidFill>
                <a:latin typeface="Arial"/>
              </a:rPr>
              <a:t>(su sfondo verde)</a:t>
            </a:r>
            <a:r>
              <a:rPr b="0" lang="it-IT" sz="1000" spc="-1" strike="noStrike">
                <a:solidFill>
                  <a:srgbClr val="000000"/>
                </a:solidFill>
                <a:latin typeface="Arial"/>
              </a:rPr>
              <a:t>, la più avvertita da Nordafrica (24), Cina (22) e Ex-Urss (21), la quinta per Africa Subsahariana (18), minoritaria per America Latina (11) e Albania (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quanto riguarda le aree rivolte ad una maggiore tolleranza e integrazio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TUTELA CONTRO QUALSIASI DISCRIMINAZIONE </a:t>
            </a:r>
            <a:r>
              <a:rPr b="0" i="1" lang="it-IT" sz="1000" spc="-1" strike="noStrike">
                <a:solidFill>
                  <a:srgbClr val="000000"/>
                </a:solidFill>
                <a:latin typeface="Arial"/>
              </a:rPr>
              <a:t>(su sfondo giallo)</a:t>
            </a:r>
            <a:r>
              <a:rPr b="0" lang="it-IT" sz="1000" spc="-1" strike="noStrike">
                <a:solidFill>
                  <a:srgbClr val="000000"/>
                </a:solidFill>
                <a:latin typeface="Arial"/>
              </a:rPr>
              <a:t> è l’auspicio prioritario per il gruppo Albania (13, l’unico in cui si trovi d’accordo la maggioranza del campione), il secondo per Africa Subsahariana (24 su 25), il terzo per Nordafrica (23), maggioritario per America Latina (18) e Cina (17).</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CERCA DI INCONTRI E SCAMBI TRA CULTURE DIFFERENTI </a:t>
            </a:r>
            <a:r>
              <a:rPr b="0" i="1" lang="it-IT" sz="1000" spc="-1" strike="noStrike">
                <a:solidFill>
                  <a:srgbClr val="000000"/>
                </a:solidFill>
                <a:latin typeface="Arial"/>
              </a:rPr>
              <a:t>(su sfondo rosso)</a:t>
            </a:r>
            <a:r>
              <a:rPr b="0" lang="it-IT" sz="1000" spc="-1" strike="noStrike">
                <a:solidFill>
                  <a:srgbClr val="000000"/>
                </a:solidFill>
                <a:latin typeface="Arial"/>
              </a:rPr>
              <a:t> è una necessità generalizzata, prioritaria per il gruppo Cina (22), molto avvertita anche da Africa Subsahariana (22), Nordafrica (22) e America Latina (18), meno rilevante per Ex-Urss (8) e Albania (1).</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SSISTENZA ALL’APPRENDIMENTO DELLA LINGUA ITALIANA è, invece, molto avvertita dal gruppo Cina (19, terza necessità per importanza) e America Latina (18), ma minoritaria per Ex-Urss (12) e, tra le ultime aree per importanza, per Nordafrica (7), Africa Subsahariana (4) e Albania (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la serie di servizi legati alla condizione occupazional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TUTELA SUL POSTO DI LAVORO </a:t>
            </a:r>
            <a:r>
              <a:rPr b="0" i="1" lang="it-IT" sz="1000" spc="-1" strike="noStrike">
                <a:solidFill>
                  <a:srgbClr val="000000"/>
                </a:solidFill>
                <a:latin typeface="Arial"/>
              </a:rPr>
              <a:t>(su sfondo celeste)</a:t>
            </a:r>
            <a:r>
              <a:rPr b="0" lang="it-IT" sz="1000" spc="-1" strike="noStrike">
                <a:solidFill>
                  <a:srgbClr val="000000"/>
                </a:solidFill>
                <a:latin typeface="Arial"/>
              </a:rPr>
              <a:t> è la seconda priorità per Nordafrica (23) e Ex-Urss (18), terza per America Latina (19) e Cina (19), molto meno avvertito come problema da Africa Subsahariana (4) e Albania (2);</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SSISTENZA ALLA RICERCA DI UN LAVORO </a:t>
            </a:r>
            <a:r>
              <a:rPr b="0" i="1" lang="it-IT" sz="1000" spc="-1" strike="noStrike">
                <a:solidFill>
                  <a:srgbClr val="000000"/>
                </a:solidFill>
                <a:latin typeface="Arial"/>
              </a:rPr>
              <a:t>(su sfondo blu)</a:t>
            </a:r>
            <a:r>
              <a:rPr b="0" lang="it-IT" sz="1000" spc="-1" strike="noStrike">
                <a:solidFill>
                  <a:srgbClr val="000000"/>
                </a:solidFill>
                <a:latin typeface="Arial"/>
              </a:rPr>
              <a:t>, terza priorità per Nordafrica (22), America Latina (19), Cina (17) e Ex-Urss (16), qui invece ora maggioritaria per Africa Subsahariana (15), minima per Albania (3);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FORMAZIONE PROFESSIONALE, invece, è avvertita come prioritaria solo dalla larga maggioranza del gruppo America Latina (18), mentre per gli altri la quota è minoritaria e gerarchicamente tra le ultime aree in cui si richiede un maggiore intervento, dunque Cina (12), Nordafrica (9), Africa Subsahariana (8), Ex-Urss (4) e Albania (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 quel che ha a che fare con un’assistenza più specific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SSISTENZA GIURIDICA (su sfondo grigio) è molto richiesta dai gruppi America Latina (21, la seconda area per necessità di intereventi) e Africa Subsahariana (21), comunque maggioritaria per Nordafrica (17) e Cina (15), meno determinante per Ex-Urss (12) e Albania (7, ma secondo valore per rilevanz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SSISTENZA SANITARIA è una necessità auspicata dalla maggioranza del campione dei gruppi Nordafrica (18) e America Latina (16), minoritaria per Ex-Urss (12) e Africa Subsahariana (10), ancora meno avvertita da Cina (6) e Albania (2);</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n potenziamento dei SERVIZI DI PRIMA ACCOGLIENZA è molto richiesto dai gruppi America Latina (19, secondo intervento per priorità) e Nordafrica (19), meno da Africa Subsahariana (10), quasi per nulla da Cina (5), Ex-Urss (1) e Albania (1).</a:t>
            </a:r>
            <a:endParaRPr b="0" lang="en-US" sz="1000" spc="-1" strike="noStrike">
              <a:solidFill>
                <a:srgbClr val="000000"/>
              </a:solidFill>
              <a:latin typeface="Arial"/>
            </a:endParaRPr>
          </a:p>
        </p:txBody>
      </p:sp>
      <p:sp>
        <p:nvSpPr>
          <p:cNvPr id="130"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 RIFERIMENTI AFFIDABILI</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32" name="PlaceHolder 2"/>
          <p:cNvSpPr>
            <a:spLocks noGrp="1"/>
          </p:cNvSpPr>
          <p:nvPr>
            <p:ph/>
          </p:nvPr>
        </p:nvSpPr>
        <p:spPr>
          <a:xfrm>
            <a:off x="468360" y="1196640"/>
            <a:ext cx="8229600" cy="5327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osto il riconoscimento appena svolto di un invito forte e generalizzato a intervenire maggiormente in una pluralità di settori, l’individuazione di interlocutori molto affidabili è invece un’operazione molto più disomogenea e selettiv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i gruppi ALBANIA e soprattutto NORDAFRICA non c’è nessun riferimento, tra quelli proposti, in cui nutra molta fiducia almeno metà dei rispettivi campioni (premesso nuovamente che sull’attenzione rivolta dal gruppo albanese a questo gruppo di domande vige lo stesso dubbio già manifestato nella tabella precedent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er EX-URSS e AMERICA LATINA sono solo due questi riferimenti affidabili (gli sportelli per immigrati, in ambo i gruppi, poi lo Stato italiano per Ex-Urss e la Chiesa Cattolica per l’America Latin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nvece, per CINA e in particolare AFRICA SUBSAHARIANA questa fiducia è molto più alta e largamente distribuita tra molti dei riferimenti propost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l dettaglio, tra gli enti solidali rivolti direttamente ad agevolare l’inserimento degli immigrati:</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LI SPORTELLI PER IMMIGRATI </a:t>
            </a:r>
            <a:r>
              <a:rPr b="0" i="1" lang="it-IT" sz="1000" spc="-1" strike="noStrike">
                <a:solidFill>
                  <a:srgbClr val="000000"/>
                </a:solidFill>
                <a:latin typeface="Arial"/>
              </a:rPr>
              <a:t>(su sfondo arancione)</a:t>
            </a:r>
            <a:r>
              <a:rPr b="0" lang="it-IT" sz="1000" spc="-1" strike="noStrike">
                <a:solidFill>
                  <a:srgbClr val="000000"/>
                </a:solidFill>
                <a:latin typeface="Arial"/>
              </a:rPr>
              <a:t> sono in generale il riferimento più affidabile, quasi unanimamente (e il primo per importanza riconosciuta) per Africa Subsahariana (24), Ex-Urss (22) e America Latina (22), ampiamente rilevante per il gruppo Cina (16), invece quasi per nulla riconosciuto da Nordafrica (1) e Albania (1);</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E ASSOCIAZIONI DI VOLONTARIATO </a:t>
            </a:r>
            <a:r>
              <a:rPr b="0" i="1" lang="it-IT" sz="1000" spc="-1" strike="noStrike">
                <a:solidFill>
                  <a:srgbClr val="000000"/>
                </a:solidFill>
                <a:latin typeface="Arial"/>
              </a:rPr>
              <a:t>(su sfondo giallo)</a:t>
            </a:r>
            <a:r>
              <a:rPr b="0" lang="it-IT" sz="1000" spc="-1" strike="noStrike">
                <a:solidFill>
                  <a:srgbClr val="000000"/>
                </a:solidFill>
                <a:latin typeface="Arial"/>
              </a:rPr>
              <a:t> sono, per tutti i gruppi, meno affidabili del riferimento precedente, ma comunque suscitano molta fiducia nella maggioranza di Africa Subsahariana (22, secondi per importanza) e Cina (16, terzi), quasi per l’America Latina (11), invece in una sola persona su 25 per Albania, Ex-Urss e Nordafric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irca l’investimento fiduciario nei propri riferimenti originari:</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ROPRIO PAESE DI ORIGINE </a:t>
            </a:r>
            <a:r>
              <a:rPr b="0" i="1" lang="it-IT" sz="1000" spc="-1" strike="noStrike">
                <a:solidFill>
                  <a:srgbClr val="000000"/>
                </a:solidFill>
                <a:latin typeface="Arial"/>
              </a:rPr>
              <a:t>(su sfondo rosso)</a:t>
            </a:r>
            <a:r>
              <a:rPr b="0" lang="it-IT" sz="1000" spc="-1" strike="noStrike">
                <a:solidFill>
                  <a:srgbClr val="000000"/>
                </a:solidFill>
                <a:latin typeface="Arial"/>
              </a:rPr>
              <a:t> raccoglie molta fiducia nei gruppi Cina (19, nel quale è primo per rilevanza) e Africa Subsahariana (18), ma all’opposto nettamente inferiore tra i gruppi Nordafrica (5, dove però è il primo riferimento affidabile per importanza), Ex-Urss (3), America Latina (3) e Albania (1);</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ei PROPRI CONNAZIONALI </a:t>
            </a:r>
            <a:r>
              <a:rPr b="0" i="1" lang="it-IT" sz="1000" spc="-1" strike="noStrike">
                <a:solidFill>
                  <a:srgbClr val="000000"/>
                </a:solidFill>
                <a:latin typeface="Arial"/>
              </a:rPr>
              <a:t>(su sfondo marrone)</a:t>
            </a:r>
            <a:r>
              <a:rPr b="0" lang="it-IT" sz="1000" spc="-1" strike="noStrike">
                <a:solidFill>
                  <a:srgbClr val="000000"/>
                </a:solidFill>
                <a:latin typeface="Arial"/>
              </a:rPr>
              <a:t>, invece, la molta fiducia è maggioritaria solo per il gruppo Africa Subsahariana (20), uno dei quattro gruppi in cui però, alta o media che sia come intensità, la fiducia è maggiore rispetto a quella nel proprio paese (nettamente, sia per America Latina, 10, che per Ex-Urss, 8, e Albania, 7), mentre per Cina (12) e Nordafrica (1) avviene il contrario, cioè più fiducia al paese che ai connazional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ra i riferimenti italiani e/o in Italia:</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POPOLO ITALIANO </a:t>
            </a:r>
            <a:r>
              <a:rPr b="0" i="1" lang="it-IT" sz="1000" spc="-1" strike="noStrike">
                <a:solidFill>
                  <a:srgbClr val="000000"/>
                </a:solidFill>
                <a:latin typeface="Arial"/>
              </a:rPr>
              <a:t>(su sfondo celeste)</a:t>
            </a:r>
            <a:r>
              <a:rPr b="0" lang="it-IT" sz="1000" spc="-1" strike="noStrike">
                <a:solidFill>
                  <a:srgbClr val="000000"/>
                </a:solidFill>
                <a:latin typeface="Arial"/>
              </a:rPr>
              <a:t> è un riferimento molto affidabile per il gruppo Cina (19), di poco minoritario per Ex-Urss (11), America Latina (10) e Albania (9, il primo riferimento per fiducia suscitata), in tutti questi casi con una fiducia pari o addirittura superiore a quella nei propri connazionali, discretamente affidabile per Africa Subsahariana (7), affatto per il gruppo Nordafrica (0).</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O STATO ITALIANO </a:t>
            </a:r>
            <a:r>
              <a:rPr b="0" i="1" lang="it-IT" sz="1000" spc="-1" strike="noStrike">
                <a:solidFill>
                  <a:srgbClr val="000000"/>
                </a:solidFill>
                <a:latin typeface="Arial"/>
              </a:rPr>
              <a:t>(su sfondo blu)</a:t>
            </a:r>
            <a:r>
              <a:rPr b="0" lang="it-IT" sz="1000" spc="-1" strike="noStrike">
                <a:solidFill>
                  <a:srgbClr val="000000"/>
                </a:solidFill>
                <a:latin typeface="Arial"/>
              </a:rPr>
              <a:t> riscuote molta fiducia nella maggioranza del gruppo Ex-Urss (14, secondo per rilevanza e l’unico gruppo in cui la fiducia è più alta nello Stato che nel popolo italiano) e del gruppo Cina (13), in un numero considerevole di persone del gruppo America Latina (10), per nulla o quasi nei gruppi Africa Subsahariana (2), Albania (1) e Nordafrica (0).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CHIESA CATTOLICA </a:t>
            </a:r>
            <a:r>
              <a:rPr b="0" i="1" lang="it-IT" sz="1000" spc="-1" strike="noStrike">
                <a:solidFill>
                  <a:srgbClr val="000000"/>
                </a:solidFill>
                <a:latin typeface="Arial"/>
              </a:rPr>
              <a:t>(su sfondo verde)</a:t>
            </a:r>
            <a:r>
              <a:rPr b="0" lang="it-IT" sz="1000" spc="-1" strike="noStrike">
                <a:solidFill>
                  <a:srgbClr val="000000"/>
                </a:solidFill>
                <a:latin typeface="Arial"/>
              </a:rPr>
              <a:t> è un attore in cui solo il gruppo America Latina (13, per cui è il secondo riferimento per importanza) ha una fiducia estesa, discreta nel gruppo Ex-Urss (9), molto più risicata per Cina (4, ultimo riferimento per affidabilità), Africa Subsahariana (3), Nordafrica (2) e Albania (0).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IL SINDACATO </a:t>
            </a:r>
            <a:r>
              <a:rPr b="0" i="1" lang="it-IT" sz="1000" spc="-1" strike="noStrike">
                <a:solidFill>
                  <a:srgbClr val="000000"/>
                </a:solidFill>
                <a:latin typeface="Arial"/>
              </a:rPr>
              <a:t>(su sfondo grigio)</a:t>
            </a:r>
            <a:r>
              <a:rPr b="0" lang="it-IT" sz="1000" spc="-1" strike="noStrike">
                <a:solidFill>
                  <a:srgbClr val="000000"/>
                </a:solidFill>
                <a:latin typeface="Arial"/>
              </a:rPr>
              <a:t> ha un ruolo ampiamente riconosciuto da gran parte delle persone provenienti dall’Africa Subsahariana (20, terzo per rilevanza), ma inferiore per il gruppo America Latina (10) e soprattutto Cina (5), Ex-Urss (4), Nordafrica (2) e Albania (0);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LI IMPRENDITORI, invece, sono quasi unanimamente l’ultimo riferimento per affidabilità, con molta fiducia da non più di 2 persone per ciascun campione, dunque riconosciuto ovunque anche inferiore, più o meno nettamente, al sindacato, tranne che per il gruppo Cina dove il valore è più alto (7) e superiore a quello della fiducia verso i sindacati.</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 GLI ABITANTI DI QUESTA ZON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3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l’opinione sugli abitanti di questa zona, si può distinguere t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lla dei gruppi ALBANIA e, in termini leggermente superiori, CINA, dove prevale  l’idea di persone accoglienti (rispettivamente 9 e 11 su 25) ma a fronte di una maggioranza più propensa ad accreditare le altre via via meno concilianti (nell’ordine: indifferenti, diffidenti, razzist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lla del gruppo EX-URSS, in cui invece è chiara e netta l’opinione di persone accoglienti (20 su 2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lla dei gruppi AMERICA LATINA e AFRICA SUBSAHARIANA, dove una leggera maggioranza vive in termini ostili il comportamento degli abitanti di questa zona (più largamente razzista per i primi, diffidenti per i secondi) e l’idea di persone accoglienti tocca meno di un quarto del campione (6 per ambedu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lla, infine, del gruppo NORDAFRICA, in cui è netta, quasi unanime (per 24 intervistati su 25) la percezione della diffidenza (14) o del razzismo (10), salvo un unico caso in cui si reputano accoglienti gli abitanti del territorio riminese.</a:t>
            </a:r>
            <a:endParaRPr b="0" lang="en-US" sz="1600" spc="-1" strike="noStrike">
              <a:solidFill>
                <a:srgbClr val="000000"/>
              </a:solidFill>
              <a:latin typeface="Arial"/>
            </a:endParaRPr>
          </a:p>
        </p:txBody>
      </p:sp>
      <p:sp>
        <p:nvSpPr>
          <p:cNvPr id="136"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a VALUTAZIONE DEI SERVIZI SANITARI </a:t>
            </a:r>
            <a:br>
              <a:rPr sz="2000"/>
            </a:br>
            <a:r>
              <a:rPr b="1" lang="en-US" sz="2000" spc="-1" strike="noStrike">
                <a:solidFill>
                  <a:srgbClr val="000000"/>
                </a:solidFill>
                <a:latin typeface="Arial"/>
              </a:rPr>
              <a:t>PRONTO SOCCORSO</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3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 i servizi sanitari, la valutazione del Pronto Soccorso è:</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remamente positiva, per il gruppo AFRICA SUBSAHARIANA (per 20 dei 22 che hanno risposto in merit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denzialmente positivo, per il gruppo CINA (10 contro 3 negativi), ma a fronte di una quota più estesa (12) di chi non ha saputo o voluto risponde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stanzialmente di equilibrio, per il gruppo AMERICA LATINA, tra giudizi negativi (11) e positivi (9), con una quota minoritaria di indecisi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denzialmente negativa, per i gruppi ALBANIA e EX-URSS, dove la maggioranza o quasi (rispettivamente 13 e 12) non sa cosa rispondere e, dove espresso, il giudizio è più negativo che positivo (specie per l’Alban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tamente negativa, per il gruppo NORDAFRICA, con 21 giudizi negativi sui 24 che hanno espresso un’opinion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9"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b VALUTAZIONE DEI SERVIZI SANITARI </a:t>
            </a:r>
            <a:br>
              <a:rPr sz="2000"/>
            </a:br>
            <a:r>
              <a:rPr b="1" lang="en-US" sz="2000" spc="-1" strike="noStrike">
                <a:solidFill>
                  <a:srgbClr val="000000"/>
                </a:solidFill>
                <a:latin typeface="Arial"/>
              </a:rPr>
              <a:t>AMBULATORIO EXTRA-CE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un’opinione sull’operato dell’Ambulatorio Extra-Cee, il rilievo più importante da annotare è che la quota di chi non sa rispondere è:</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lto estesa (da 17 a 21, su 25) nei gruppi AFRICA SUBSAHARIANA, ALBANIA, EX-URSS e NORDAFRI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iù o meno maggioritaria, nei gruppi CINA (13) e AMERICA LATINA (1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d ogni modo, nella minoranza che ha espresso un parere, l’opinione è largamente positiva in tutti gruppi, salvo i casi più risicati di Nordafrica e Africa Subsahariana.</a:t>
            </a:r>
            <a:endParaRPr b="0" lang="en-US" sz="1600" spc="-1" strike="noStrike">
              <a:solidFill>
                <a:srgbClr val="000000"/>
              </a:solidFill>
              <a:latin typeface="Arial"/>
            </a:endParaRPr>
          </a:p>
        </p:txBody>
      </p:sp>
      <p:sp>
        <p:nvSpPr>
          <p:cNvPr id="142"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c VALUTAZIONE DEI SERVIZI SANITARI </a:t>
            </a:r>
            <a:br>
              <a:rPr sz="2000"/>
            </a:br>
            <a:r>
              <a:rPr b="1" lang="en-US" sz="2000" spc="-1" strike="noStrike">
                <a:solidFill>
                  <a:srgbClr val="000000"/>
                </a:solidFill>
                <a:latin typeface="Arial"/>
              </a:rPr>
              <a:t>MEDICO DI BAS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lla valutazione dell’operato del medico di base, anche alla luce di quanto vi sia diffuso il ricorso (vedi 2.17), si può distinguere t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ANIA, CINA e EX-URSS, tra i quali è maggioritaria, o quasi, una valutazione positiva, bilanciata però da un numero di non risposte altrettanto elevato (l’incrocio con il possesso di un proprio medico di base rivela come caso più accentuato quello albanese, dove 8 intervistati su 21, pur avendolo, non sanno o non vogliono giudicarl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ERICA LATINA (21 su 25) e soprattutto AFRICA SUBSAHARIANA (24 su 25), dove il giudizio è positivo quasi per tutti gli intervistat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DAFRICA, dove i giudizi, netti (solo uno su 25 non sa rispondere), si spaccano a metà tra positivi e negativi (è questo dunque, largamente, il gruppo con il maggior numero di valutazioni negative).</a:t>
            </a:r>
            <a:endParaRPr b="0" lang="en-US" sz="1600" spc="-1" strike="noStrike">
              <a:solidFill>
                <a:srgbClr val="000000"/>
              </a:solidFill>
              <a:latin typeface="Arial"/>
            </a:endParaRPr>
          </a:p>
        </p:txBody>
      </p:sp>
      <p:sp>
        <p:nvSpPr>
          <p:cNvPr id="145"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d VALUTAZIONE DEI SERVIZI SANITARI </a:t>
            </a:r>
            <a:br>
              <a:rPr sz="2000"/>
            </a:br>
            <a:r>
              <a:rPr b="1" lang="en-US" sz="2000" spc="-1" strike="noStrike">
                <a:solidFill>
                  <a:srgbClr val="000000"/>
                </a:solidFill>
                <a:latin typeface="Arial"/>
              </a:rPr>
              <a:t>CONSULTORIO EXTRA-CE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rca la valutazione del Consultorio Extra-Cee, è evidente come questa ricalchi quella dell’Ambulatorio (con qualche specifica differenza, però):</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ALBANIA, CINA, AFRICA SUBSAHARIANA e EX-URSS, infatti, come già riguardo l’Ambulatorio, si ha una netta maggioranza (da 17 a 22, su 25) di chi non sa rispondere, pur prevalendo tra gli altri giudizi quasi del tutto positiv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peculiarità circa il Consultorio riguardano, invece, AMERICA LATINA e NORDAFRICA, i gruppi dove il numero degli indecisi è molto più contenuto (rispettivamente 9 e 4), anche rispetto a quanto avveniva per l’Ambulatorio…</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che per il primo gruppo, ad ogni modo, la valutazione è marcatamente positiva (14 a 2);</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l’opposto, per il Nordafrica, prevalgono, altrettanto nettamente, quelli negativi (16 contro 5).</a:t>
            </a: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e VALUTAZIONE DEI SERVIZI SANITARI</a:t>
            </a:r>
            <a:br>
              <a:rPr sz="2000"/>
            </a:br>
            <a:r>
              <a:rPr b="1" lang="en-US" sz="2000" spc="-1" strike="noStrike">
                <a:solidFill>
                  <a:srgbClr val="000000"/>
                </a:solidFill>
                <a:latin typeface="Arial"/>
              </a:rPr>
              <a:t>RIFERIMENTI A CONFRONTO PER OGNI GRUPPO</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50" name="PlaceHolder 2"/>
          <p:cNvSpPr>
            <a:spLocks noGrp="1"/>
          </p:cNvSpPr>
          <p:nvPr>
            <p:ph/>
          </p:nvPr>
        </p:nvSpPr>
        <p:spPr>
          <a:xfrm>
            <a:off x="468360" y="1341360"/>
            <a:ext cx="8229600" cy="49672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valutazione espressa su una pluralità di servizi sanitari permette anche di compararne tra loro la diffusione e il gradimento in ciascun gruppo preso in esame: la misura viene quindi presa sia, in primo luogo, su quanti effettivamente abbiano risposto in proposito (visto il numero generalmente elevato di “non risposte”) che, in seconda istanza, sulla distribuzione tra chi ha risposto positivamente o negativament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unque, si può distinguere tr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NA, ALBANIA e soprattutto EX-URSS, dove, nonostante la chiara prevalenza di giudizi positivi sui negativi (tranne che per Albania e Ex-Urss, circa il Pronto Soccorso), la quota preponderante tra gli intervistati è quasi sempre quella di chi non sa risponde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FRICA SUBSAHARIANA, con una quota preponderante di non risposte solo riguardo Ambulatorio e Consultorio Extra-Cee, mentre la valutazione circa Pronto Soccorso e Medico di base è quasi integralmente positiva (rispettivamente, 20 e 24 su 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RDAFRICA, dove la maggioranza di non risposte è solo sull’operato dell’Ambulatorio Extra-Cee, mentre su Pronto Soccorso, Consultorio Extra-Cee e Medico di base i giudizi vengono largamente espressi e quasi sempre negativamente (tranne che sul Medico di base dove valutazioni positive e negative si equivalgo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MERICA LATINA, il gruppo dove la quota di non risposte è ovunque minoritaria e dove le valutazioni, dunque largamente manifestate, sono ampiamente positive per Ambulatorio, Consultorio e soprattutto Medico di base, in sostanziale equilibrio tra positive e negative, invece, circa il Pronto Soccorso.  </a:t>
            </a:r>
            <a:endParaRPr b="0" lang="en-US" sz="1400" spc="-1" strike="noStrike">
              <a:solidFill>
                <a:srgbClr val="000000"/>
              </a:solidFill>
              <a:latin typeface="Arial"/>
            </a:endParaRPr>
          </a:p>
        </p:txBody>
      </p:sp>
      <p:sp>
        <p:nvSpPr>
          <p:cNvPr id="151"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 LA VALUTAZIONE DELL’ESPERIENZA MIGRATORIA</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153" name="PlaceHolder 2"/>
          <p:cNvSpPr>
            <a:spLocks noGrp="1"/>
          </p:cNvSpPr>
          <p:nvPr>
            <p:ph/>
          </p:nvPr>
        </p:nvSpPr>
        <p:spPr>
          <a:xfrm>
            <a:off x="468360" y="1196640"/>
            <a:ext cx="8229600" cy="51116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esplicite domande </a:t>
            </a:r>
            <a:r>
              <a:rPr b="0" i="1" lang="it-IT" sz="1400" spc="-1" strike="noStrike">
                <a:solidFill>
                  <a:srgbClr val="000000"/>
                </a:solidFill>
                <a:latin typeface="Arial"/>
              </a:rPr>
              <a:t>“Si è pentito di essere venuto in Italia?”</a:t>
            </a:r>
            <a:r>
              <a:rPr b="0" lang="it-IT" sz="1400" spc="-1" strike="noStrike">
                <a:solidFill>
                  <a:srgbClr val="000000"/>
                </a:solidFill>
                <a:latin typeface="Arial"/>
              </a:rPr>
              <a:t> e </a:t>
            </a:r>
            <a:r>
              <a:rPr b="0" i="1" lang="it-IT" sz="1400" spc="-1" strike="noStrike">
                <a:solidFill>
                  <a:srgbClr val="000000"/>
                </a:solidFill>
                <a:latin typeface="Arial"/>
              </a:rPr>
              <a:t>“Pensa di andarsene dall’Italia appena le sarà possibile?”</a:t>
            </a:r>
            <a:r>
              <a:rPr b="0" lang="it-IT" sz="1400" spc="-1" strike="noStrike">
                <a:solidFill>
                  <a:srgbClr val="000000"/>
                </a:solidFill>
                <a:latin typeface="Arial"/>
              </a:rPr>
              <a:t> permettono di verificare la valutazione, a posteriori, del proprio progetto migratorio e, nelle intenzioni, in quale direzione lo si voglia evolver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 possono identificare almeno tre valutazioni quasi omogene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entrambi i gruppi EX-URSS e AMERICA LATINA…</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soddisfatti dell’arrivo in Italia sono quasi l’intero campione (rispettivamente 21 e 22, su 25);</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i restare è diffuso in metà degli intervistati (13 e 12);</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i tornare al proprio paese è radicato in meno di un quarto del campione (5, per entrambi);</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quarto restante di ambedue i gruppi è tuttora indeciso (6, la quota più alta tra tutti i gruppi);</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numero di chi pensa di proseguire la migrazione altrove è minimo (rispettivamente 1 e 2);</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 gruppi ALBANIA e AFRICA SUBSAHARIANA…</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altrettanto diffusa una valutazione positiva dell’arrivo in Italia (solo 2 su 25 se ne sono pentiti);</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è però maggioritaria, quasi unanime per il secondo gruppo (rispettivamente 15 e 22, su 25), l’ambizione di tornare appena possibile al proprio paese;</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per il gruppo albanese, è presente anche una quota discreta di chi intende restare in Italia (5) o proseguire la migrazione verso un altro paese (4);</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 gruppi CINA e NORDAFRICA…</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è una fascia più larga tra gli intervistati a dichiararsi pentiti dell’arrivo in Italia, uno su tre nel gruppo Cina (8), addirittura la maggioranza nel gruppo Nordafrica (13);</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la stessa misura però, tra loro e di Ex-Urss e America Latina (viceversa molto meno pentiti), cioè in metà del campione, non è presente il progetto di andarsene appena possibile (né, a differenza di Ex-Urss e America Latina, vi sono sostanzialmente indecisi al riguardo);</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progetto di andarsene al più presto dall’Italia, diffuso nell’altra metà del campione, è rivolto, per la Cina, più marcatamente verso un paese terzo e, per il Nordafrica, in misura meno accentuata, verso la propria terra di origin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LE PROSPETTIVE PROSSIME FUTUR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156" name="PlaceHolder 2"/>
          <p:cNvSpPr>
            <a:spLocks noGrp="1"/>
          </p:cNvSpPr>
          <p:nvPr>
            <p:ph/>
          </p:nvPr>
        </p:nvSpPr>
        <p:spPr>
          <a:xfrm>
            <a:off x="468360" y="1197000"/>
            <a:ext cx="8229600" cy="5184720"/>
          </a:xfrm>
          <a:prstGeom prst="rect">
            <a:avLst/>
          </a:prstGeom>
          <a:noFill/>
          <a:ln w="0">
            <a:noFill/>
          </a:ln>
        </p:spPr>
        <p:txBody>
          <a:bodyPr lIns="90000" rIns="90000" tIns="46800" bIns="46800"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ncrocio delle variabili appena esposte (pentimento sull’arrivo in Italia e progetto di andarsene appena possibile) consente di individuare una linea di tendenza, espressa in una tipologia delle “prospettive prossime future”, sulla diffusione di quali aspettative predomino in ciascun gruppo in esame.</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gruppo AFRICA SUBSAHARIANA è largamente prevalente (19 su 25) la quota di “fieri” (in questa maniera si è inteso definire chi, senza essersi pentito del suo arrivo in Italia, intende tornarsene appena possibile al suo paese di origine) sia sull’intero paese (19 su 25) sia su chi, pur volendo ugualmente andarsene, ha tratto un giudizio negativo della sua esperienza in Italia (19 contro 2).</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 gruppo ALBANIA la stessa tendenza è meno accentuata ma comunque preponderante, con 14 fieri sulle 25 persone dell’intero campione e contro l’unico “nostalgico” (cioè chi si è pentito del suo arrivo in Italia e pensa di tornarsene appena possibile al proprio paese), ma si hanno anche 5 persone (nessuna, invece, nel gruppo subsahariano) intenzionate a stabilirsi definitivamente qui.</a:t>
            </a:r>
            <a:endParaRPr b="0" lang="en-US" sz="1400" spc="-1" strike="noStrike">
              <a:solidFill>
                <a:srgbClr val="000000"/>
              </a:solidFill>
              <a:latin typeface="Arial"/>
            </a:endParaRPr>
          </a:p>
          <a:p>
            <a:pPr marL="339480" indent="-339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gli altri gruppi, al contrario, l’aspettativa predominante è, appunto, di restare in Italia senza essere pentiti di esservi giunti (rientrando in quella categoria che è stata denominata “in via di radicamento”):</a:t>
            </a:r>
            <a:endParaRPr b="0" lang="en-US" sz="1400" spc="-1" strike="noStrike">
              <a:solidFill>
                <a:srgbClr val="000000"/>
              </a:solidFill>
              <a:latin typeface="Arial"/>
            </a:endParaRPr>
          </a:p>
          <a:p>
            <a:pPr lvl="1" marL="735480" indent="-282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EX-URSS e AMERICA LATINA questa percezione è quasi maggioritaria (rispettivamente 12 e 11 su 25), con una quota quasi altrettanto estesa (in 8 casi per entrambi) di persone tuttora “indecise” (sul bilancio della propria migrazione e/o sul da farsi);</a:t>
            </a:r>
            <a:endParaRPr b="0" lang="en-US" sz="1200" spc="-1" strike="noStrike">
              <a:solidFill>
                <a:srgbClr val="000000"/>
              </a:solidFill>
              <a:latin typeface="Arial"/>
            </a:endParaRPr>
          </a:p>
          <a:p>
            <a:pPr lvl="1" marL="735480" indent="-2829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gruppi CINA e NORDAFRICA, invece, a fronte della diffusione leggermente inferiore di chi, con soddisfazione, intende restare in Italia (rispettivamente 10 e 7), la quota di indecisi è assente e viene rimpiazzata da situazioni più definite, di disagio (specie per il Nordafrica, nettamente) e/o di ripartenza (per la Cina, meno marcatamente). </a:t>
            </a:r>
            <a:endParaRPr b="0" lang="en-US" sz="1200" spc="-1" strike="noStrike">
              <a:solidFill>
                <a:srgbClr val="000000"/>
              </a:solidFill>
              <a:latin typeface="Arial"/>
            </a:endParaRPr>
          </a:p>
        </p:txBody>
      </p:sp>
      <p:sp>
        <p:nvSpPr>
          <p:cNvPr id="157"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4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 L’ESPERIENZA MIGRATORIA</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51"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lla domanda </a:t>
            </a:r>
            <a:r>
              <a:rPr b="0" i="1" lang="it-IT" sz="1400" spc="-1" strike="noStrike">
                <a:solidFill>
                  <a:srgbClr val="000000"/>
                </a:solidFill>
                <a:latin typeface="Arial"/>
              </a:rPr>
              <a:t>“Se, al momento di emigrare in Italia, avesse potuto scegliere tra più paesi, sarebbe ugualmente venuto qui?”</a:t>
            </a:r>
            <a:r>
              <a:rPr b="0" lang="it-IT" sz="1400" spc="-1" strike="noStrike">
                <a:solidFill>
                  <a:srgbClr val="000000"/>
                </a:solidFill>
                <a:latin typeface="Arial"/>
              </a:rPr>
              <a:t> l’analisi delle risposte pone in risalto tre tendenze:</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talia come prima scelta…</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prattutto per il gruppo dell’AFRICA SUBSAHARIANA (17 su 25);</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che per il gruppo EX-URSS, ma in misura meno netta (11 si contro 6 no) e in particolare con un numero molto alto (il più alto tra i gruppi in esame) di indecisi (8);</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trambi accomunati da una minoranza di persone con precedenti esperienze migratorie (rispettivamente 7 e 9), svolte però esclusivamente al di fuori sia del proprio territorio che di quello italiano (arrivando dunque direttamente a Rimini).</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 equilibrio sostanziale tra l’Italia come prima scelta o come ripiego…</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a per il gruppo dell’ALBANIA (12 si, 13 no, nessun indeciso);</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he per il gruppo dell’AMERICA LATINA (9 si, 11 no), con una discreta presenza di indecisi (5);</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entrambi i casi, anche qui, vi è una quota leggermente minoritaria di persone con precedenti esperienze migratorie (rispettivamente 10 e 7) con una ripartizione pressochè identica tra quelle compiute nel proprio paese (un caso sparuto), altrove (più o meno per la metà) e in Italia (per oltre il 50% di chi era già emigrato in precedenza prima dell’arrivo a Rimini).</a:t>
            </a:r>
            <a:endParaRPr b="0" lang="en-US" sz="12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Italia come scelta di ripiego…</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anto per il gruppo CINA (8 si, 17 no) quanto per il gruppo NORDAFRICA (8 si, 16 no, 1 indeciso), collocandosi però agli antipodi, non solo tra loro ma di tutti i gruppi presi in esame, circa le eventuali esperienze migratorie precedenti;</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primi questo avviene nella quasi totalità dei casi (22 su 25), già all’interno del proprio paese (11) e soprattutto molto più itinerando in Italia (per 18 di loro, di gran lunga il valore più alto tra tutti i gruppi) di quanto lo abbiano fatto altrove (5);</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secondo gruppo è, invece, tra tutti quello con minori esperienze migratorie (3 su 25) e concentrato esclusivamente in altri paesi oltre al proprio e all’Italia (anche qui, dunque, pur se in misura minore e con premesse totalmente opposte, Rimini è stato il primo approdo come per Ex-Urss e Africa Subsahariana). </a:t>
            </a:r>
            <a:endParaRPr b="0" lang="en-US" sz="1200" spc="-1" strike="noStrike">
              <a:solidFill>
                <a:srgbClr val="000000"/>
              </a:solidFill>
              <a:latin typeface="Arial"/>
            </a:endParaRPr>
          </a:p>
        </p:txBody>
      </p:sp>
      <p:sp>
        <p:nvSpPr>
          <p:cNvPr id="52"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LA MIGRAZIONE NEL TERRITORIO RIMINES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54" name="PlaceHolder 2"/>
          <p:cNvSpPr>
            <a:spLocks noGrp="1"/>
          </p:cNvSpPr>
          <p:nvPr>
            <p:ph/>
          </p:nvPr>
        </p:nvSpPr>
        <p:spPr>
          <a:xfrm>
            <a:off x="468000" y="1341360"/>
            <a:ext cx="8218440" cy="48960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Una tipologia del progetto migratorio, incrociando tra loro le variabili appena esposte (l’Italia come prima scelta di approdo e l’eventuale presenza di precedenti esperienze migratorie, in grado dunque di dare maggiore consapevolezza alla rotta verso il territorio riminese), conferma nella sostanza l’analisi espressa poco f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l gruppo dell’AFRICA SUBSAHARIANA è maggioritaria (13 su 25) la quota di persone che hanno direttamente migrato, nelle intenzioni e nei fatti, verso l’Italia e Rimin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che per il gruppo EX-URSS la migrazione diretta è la scelta più diffusa (9) ma è quasi ugualmente rilevante la quota degli incerti (8) sulla predeterminazione del luogo in cui migrar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 gruppi ALBANIA e AMERICA LATINA vi è una minore polarizzazione, con una leggera prevalenza di chi ha subito il progetto migratorio (è cioè arrivato direttamente a Rimini, ma se avesse potuto si sarebbe diretto verso altri paesi) e quote significative per chi è migrato direttamente a Rimini (in entrambi i gruppi), chi vi è arrivato consapevolmente (solo i primi) e gli indecisi (solo i second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il gruppo NORDAFRICA è largamente maggioritaria (14 su 25) la quota di persone che ha “subito” la migrazione nel territorio riminese, il doppio di chi ha sviluppato verso questa zona un progetto migratorio diretto, nelle intenzioni e nei risultat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pecularmente a quello precedente, per il gruppo CINA le stesse proporzioni sono tra la tipologia di un progetto transitorio (15 su 25, Italia scelta di ripiego e Rimini tappa successiva ad altre) e quella del progetto consapevole (7), quelli che, pur venendo da altre zone, avevano posto l’Italia come prima scelta del loro progetto.</a:t>
            </a:r>
            <a:endParaRPr b="0" lang="en-US" sz="1400" spc="-1" strike="noStrike">
              <a:solidFill>
                <a:srgbClr val="000000"/>
              </a:solidFill>
              <a:latin typeface="Arial"/>
            </a:endParaRPr>
          </a:p>
        </p:txBody>
      </p:sp>
      <p:sp>
        <p:nvSpPr>
          <p:cNvPr id="55"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 PERMANENZA IN ITALIA E PRESENZA A RIMINI</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57" name="PlaceHolder 2"/>
          <p:cNvSpPr>
            <a:spLocks noGrp="1"/>
          </p:cNvSpPr>
          <p:nvPr>
            <p:ph/>
          </p:nvPr>
        </p:nvSpPr>
        <p:spPr>
          <a:xfrm>
            <a:off x="468360" y="1341360"/>
            <a:ext cx="8229600" cy="48960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irca l’effettiva permanenza e presenza in Italia e Rimini:</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gruppi più consolidati sul territorio sono chiaramente quelli di AFRICA SUBSAHARIANA e NORDAFRICA (rispettivamente 20 e 17 sono da almeno 6 anni in Italia);</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dell’AMERICA LATINA è quello meno polarizzato come frequenza di afflussi nel tempo;</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gruppi da CINA e ALBANIA arrivano in tempi relativamente più recenti (rispettivamente 18 e 17 negli ultimi 5 anni);</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gruppo EX-URSS è invece tra tutti quello meno consolidato (nessuno su 25 è in Italia da oltre 5 anni).</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Questa stessa gerarchia si riflette sulla quota di persone effettivamente registrate come residenti nel territorio riminese:</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 e 20 per NORDAFRICA e AFRICA SUBSAHARIANA;</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5 per AMERICA LATINA;</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2 sia per CINA che per ALBANIA;</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lo 5 per EX-URSS.</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 sintomatico dunque che, come mostra la tabella più sotto, tra coloro che sono in Italia da almeno 6 anni, vi è la quasi unanimità nel dichiararsi residenti.</a:t>
            </a:r>
            <a:endParaRPr b="0" lang="en-US" sz="1400" spc="-1" strike="noStrike">
              <a:solidFill>
                <a:srgbClr val="00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rprendono però, nel dettaglio, altri due aspetti specifici:</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dispetto del minor periodo di permanenza e della quota più bassa di residenti, il gruppo EX-URSS è l’unico assieme all’AFRICA SUBSAHARIANA (con premesse completamente diverse) ad avere almeno un domicilio;</a:t>
            </a:r>
            <a:endParaRPr b="0" lang="en-US" sz="1400" spc="-1" strike="noStrike">
              <a:solidFill>
                <a:srgbClr val="000000"/>
              </a:solidFill>
              <a:latin typeface="Arial"/>
            </a:endParaRPr>
          </a:p>
          <a:p>
            <a:pPr marL="339480" indent="-339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 converso, il gruppo proveniente dalla CINA è quello che ha i maggiori problemi, qualora non residente, ad avere una dimora stabile.</a:t>
            </a:r>
            <a:endParaRPr b="0" lang="en-US" sz="1400" spc="-1" strike="noStrike">
              <a:solidFill>
                <a:srgbClr val="000000"/>
              </a:solidFill>
              <a:latin typeface="Arial"/>
            </a:endParaRPr>
          </a:p>
        </p:txBody>
      </p:sp>
      <p:sp>
        <p:nvSpPr>
          <p:cNvPr id="58"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2 IN QUALE TIPO DI ABITAZIONE VIVE ATTUALMENT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60" name="PlaceHolder 2"/>
          <p:cNvSpPr>
            <a:spLocks noGrp="1"/>
          </p:cNvSpPr>
          <p:nvPr>
            <p:ph/>
          </p:nvPr>
        </p:nvSpPr>
        <p:spPr>
          <a:xfrm>
            <a:off x="457200" y="1267920"/>
            <a:ext cx="8229600" cy="4465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tipi di abitazione dove maggiormente, al momento dell’intervista, vive il nostro campione so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UNA CASA CHE HO AFFITTATO DA SOLO O CON LA MIA FAMIGLIA </a:t>
            </a:r>
            <a:r>
              <a:rPr b="0" i="1" lang="it-IT" sz="1400" spc="-1" strike="noStrike">
                <a:solidFill>
                  <a:srgbClr val="000000"/>
                </a:solidFill>
                <a:latin typeface="Arial"/>
              </a:rPr>
              <a:t>(su sfondo arancione)</a:t>
            </a:r>
            <a:r>
              <a:rPr b="0" lang="it-IT" sz="1400" spc="-1" strike="noStrike">
                <a:solidFill>
                  <a:srgbClr val="000000"/>
                </a:solidFill>
                <a:latin typeface="Arial"/>
              </a:rPr>
              <a:t>, l’opzione principale per Albania (quasi esclusiva, 18 su 25), Nordafrica (13), America Latina (12) e Africa Subsahariana (8), rilevante per Cina (6), quasi assente per Ex-Urss (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UNA CASA CHE HO AFFITTATO CON ALTRE PERSONE IMMIGRATE </a:t>
            </a:r>
            <a:r>
              <a:rPr b="0" i="1" lang="it-IT" sz="1400" spc="-1" strike="noStrike">
                <a:solidFill>
                  <a:srgbClr val="000000"/>
                </a:solidFill>
                <a:latin typeface="Arial"/>
              </a:rPr>
              <a:t>(su sfondo viola)</a:t>
            </a:r>
            <a:r>
              <a:rPr b="0" lang="it-IT" sz="1400" spc="-1" strike="noStrike">
                <a:solidFill>
                  <a:srgbClr val="000000"/>
                </a:solidFill>
                <a:latin typeface="Arial"/>
              </a:rPr>
              <a:t>, opzione principale per Cina (8), rilevante per Ex-Urss (7) e Africa Subsahariana (7), meno frequente per America Latina (3), Nordafrica (3) e soprattutto Albania (2).</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ituazioni più marcatamente riscontrabili in alcuni gruppi (e per questo significative, anche al di là dell’entità) sono:</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 CASA DEL MIO DATORE DI LAVORO (su sfondo ), la principale, per quasi la metà (12), del gruppo Ex-Urss, significativa anche per la Cina (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UN CENTRO DI ACCOGLIENZA PER STRANIERI </a:t>
            </a:r>
            <a:r>
              <a:rPr b="0" i="1" lang="it-IT" sz="1400" spc="-1" strike="noStrike">
                <a:solidFill>
                  <a:srgbClr val="000000"/>
                </a:solidFill>
                <a:latin typeface="Arial"/>
              </a:rPr>
              <a:t>(su sfondo verde)</a:t>
            </a:r>
            <a:r>
              <a:rPr b="0" lang="it-IT" sz="1400" spc="-1" strike="noStrike">
                <a:solidFill>
                  <a:srgbClr val="000000"/>
                </a:solidFill>
                <a:latin typeface="Arial"/>
              </a:rPr>
              <a:t>, per l’Africa Subsahariana (8) una delle due opzioni più diffuse e del tutto assente o quasi tra gli altri;</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UN RESIDENCE </a:t>
            </a:r>
            <a:r>
              <a:rPr b="0" i="1" lang="it-IT" sz="1400" spc="-1" strike="noStrike">
                <a:solidFill>
                  <a:srgbClr val="000000"/>
                </a:solidFill>
                <a:latin typeface="Arial"/>
              </a:rPr>
              <a:t>(su sfondo blu)</a:t>
            </a:r>
            <a:r>
              <a:rPr b="0" lang="it-IT" sz="1400" spc="-1" strike="noStrike">
                <a:solidFill>
                  <a:srgbClr val="000000"/>
                </a:solidFill>
                <a:latin typeface="Arial"/>
              </a:rPr>
              <a:t>, per il Nordafrica (6);</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SSENZA DI DIMORA FISSA </a:t>
            </a:r>
            <a:r>
              <a:rPr b="0" i="1" lang="it-IT" sz="1400" spc="-1" strike="noStrike">
                <a:solidFill>
                  <a:srgbClr val="000000"/>
                </a:solidFill>
                <a:latin typeface="Arial"/>
              </a:rPr>
              <a:t>(su sfondo rosso)</a:t>
            </a:r>
            <a:r>
              <a:rPr b="0" lang="it-IT" sz="1400" spc="-1" strike="noStrike">
                <a:solidFill>
                  <a:srgbClr val="000000"/>
                </a:solidFill>
                <a:latin typeface="Arial"/>
              </a:rPr>
              <a:t>, per la Cina (4);</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CAMPEGGIO O POSTO LETTO </a:t>
            </a:r>
            <a:r>
              <a:rPr b="0" i="1" lang="it-IT" sz="1400" spc="-1" strike="noStrike">
                <a:solidFill>
                  <a:srgbClr val="000000"/>
                </a:solidFill>
                <a:latin typeface="Arial"/>
              </a:rPr>
              <a:t>(su sfondo celeste)</a:t>
            </a:r>
            <a:r>
              <a:rPr b="0" lang="it-IT" sz="1400" spc="-1" strike="noStrike">
                <a:solidFill>
                  <a:srgbClr val="000000"/>
                </a:solidFill>
                <a:latin typeface="Arial"/>
              </a:rPr>
              <a:t>, per l’America Latina (3);</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LLA CASA DI MIA PROPRIETA’ </a:t>
            </a:r>
            <a:r>
              <a:rPr b="0" i="1" lang="it-IT" sz="1400" spc="-1" strike="noStrike">
                <a:solidFill>
                  <a:srgbClr val="000000"/>
                </a:solidFill>
                <a:latin typeface="Arial"/>
              </a:rPr>
              <a:t>(su sfondo marrone)</a:t>
            </a:r>
            <a:r>
              <a:rPr b="0" lang="it-IT" sz="1400" spc="-1" strike="noStrike">
                <a:solidFill>
                  <a:srgbClr val="000000"/>
                </a:solidFill>
                <a:latin typeface="Arial"/>
              </a:rPr>
              <a:t>, caso estremo, solo per Cina (3) e America Latina (2).</a:t>
            </a:r>
            <a:endParaRPr b="0" lang="en-US" sz="1400" spc="-1" strike="noStrike">
              <a:solidFill>
                <a:srgbClr val="000000"/>
              </a:solidFill>
              <a:latin typeface="Arial"/>
            </a:endParaRPr>
          </a:p>
        </p:txBody>
      </p:sp>
      <p:sp>
        <p:nvSpPr>
          <p:cNvPr id="61"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 COME HA TROVATO LA SUA ATTUALE ABITAZIONE?</a:t>
            </a:r>
            <a:br>
              <a:rPr sz="2000"/>
            </a:br>
            <a:r>
              <a:rPr b="1" lang="en-US" sz="2000" spc="-1" strike="noStrike">
                <a:solidFill>
                  <a:srgbClr val="000000"/>
                </a:solidFill>
                <a:latin typeface="Arial"/>
              </a:rPr>
              <a:t>Note</a:t>
            </a:r>
            <a:endParaRPr b="1" lang="en-US" sz="2000" spc="-1" strike="noStrike">
              <a:solidFill>
                <a:srgbClr val="000000"/>
              </a:solidFill>
              <a:latin typeface="Arial"/>
            </a:endParaRPr>
          </a:p>
        </p:txBody>
      </p:sp>
      <p:sp>
        <p:nvSpPr>
          <p:cNvPr id="6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ontatti attraverso cui si è trovata l’attuale abitazione sono molteplici e differiscono notevolmente da gruppo a grupp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anno comunque un’importanza diffusa e rilevante i contatt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AMICI/PARENTI IMMIGRATI </a:t>
            </a:r>
            <a:r>
              <a:rPr b="0" i="1" lang="it-IT" sz="1400" spc="-1" strike="noStrike">
                <a:solidFill>
                  <a:srgbClr val="000000"/>
                </a:solidFill>
                <a:latin typeface="Arial"/>
              </a:rPr>
              <a:t>(su sfondo arancione)</a:t>
            </a:r>
            <a:r>
              <a:rPr b="0" lang="it-IT" sz="1400" spc="-1" strike="noStrike">
                <a:solidFill>
                  <a:srgbClr val="000000"/>
                </a:solidFill>
                <a:latin typeface="Arial"/>
              </a:rPr>
              <a:t>, per quasi tutti i gruppi, specie Africa Subsahariana (8) e Albania (6), tranne che per il Nordafric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CONOSCENTI IMMIGRATI </a:t>
            </a:r>
            <a:r>
              <a:rPr b="0" i="1" lang="it-IT" sz="1400" spc="-1" strike="noStrike">
                <a:solidFill>
                  <a:srgbClr val="000000"/>
                </a:solidFill>
                <a:latin typeface="Arial"/>
              </a:rPr>
              <a:t>(su sfondo viola)</a:t>
            </a:r>
            <a:r>
              <a:rPr b="0" lang="it-IT" sz="1400" spc="-1" strike="noStrike">
                <a:solidFill>
                  <a:srgbClr val="000000"/>
                </a:solidFill>
                <a:latin typeface="Arial"/>
              </a:rPr>
              <a:t>, la principale per il Nordafrica (9), risibile all’opposto per Africa Subsahariana e Albania;</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AMICI/PARENTI (ANCHE ACQUISITI) ITALIANI </a:t>
            </a:r>
            <a:r>
              <a:rPr b="0" i="1" lang="it-IT" sz="1400" spc="-1" strike="noStrike">
                <a:solidFill>
                  <a:srgbClr val="000000"/>
                </a:solidFill>
                <a:latin typeface="Arial"/>
              </a:rPr>
              <a:t>(su sfondo giallo)</a:t>
            </a:r>
            <a:r>
              <a:rPr b="0" lang="it-IT" sz="1400" spc="-1" strike="noStrike">
                <a:solidFill>
                  <a:srgbClr val="000000"/>
                </a:solidFill>
                <a:latin typeface="Arial"/>
              </a:rPr>
              <a:t>, la principale per America Latina (6), rilevante per Albania (5), discreta per Cina e Africa Subsahariana (3), meno diffusa per Nordafrica (2) e soprattutto nulla per Ex-Urss (0).</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ezzi più localizzati tra uno o più gruppi specifici sono soprattutto:</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IL DATORE DI LAVORO </a:t>
            </a:r>
            <a:r>
              <a:rPr b="0" i="1" lang="it-IT" sz="1400" spc="-1" strike="noStrike">
                <a:solidFill>
                  <a:srgbClr val="000000"/>
                </a:solidFill>
                <a:latin typeface="Arial"/>
              </a:rPr>
              <a:t>(su sfondo verde)</a:t>
            </a:r>
            <a:r>
              <a:rPr b="0" lang="it-IT" sz="1400" spc="-1" strike="noStrike">
                <a:solidFill>
                  <a:srgbClr val="000000"/>
                </a:solidFill>
                <a:latin typeface="Arial"/>
              </a:rPr>
              <a:t>, il principale per Cina (6) e soprattutto Ex-Urss (10), inesistente per Africa Subsahariana, minima per gli altri grupp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ASSOCIAZIONI DI VOLONTARIATO/ASSISTENZA </a:t>
            </a:r>
            <a:r>
              <a:rPr b="0" i="1" lang="it-IT" sz="1400" spc="-1" strike="noStrike">
                <a:solidFill>
                  <a:srgbClr val="000000"/>
                </a:solidFill>
                <a:latin typeface="Arial"/>
              </a:rPr>
              <a:t>(su sfondo marrone)</a:t>
            </a:r>
            <a:r>
              <a:rPr b="0" lang="it-IT" sz="1400" spc="-1" strike="noStrike">
                <a:solidFill>
                  <a:srgbClr val="000000"/>
                </a:solidFill>
                <a:latin typeface="Arial"/>
              </a:rPr>
              <a:t>, determinante per Africa Subsahariana (10) e nulla in tutti gli altri gruppi (tranne che per Nordafrica con un solo caso).</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oi:</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UN’AGENZIA IMMOBILIARE </a:t>
            </a:r>
            <a:r>
              <a:rPr b="0" i="1" lang="it-IT" sz="1400" spc="-1" strike="noStrike">
                <a:solidFill>
                  <a:srgbClr val="000000"/>
                </a:solidFill>
                <a:latin typeface="Arial"/>
              </a:rPr>
              <a:t>(su sfondo azzurro)</a:t>
            </a:r>
            <a:r>
              <a:rPr b="0" lang="it-IT" sz="1400" spc="-1" strike="noStrike">
                <a:solidFill>
                  <a:srgbClr val="000000"/>
                </a:solidFill>
                <a:latin typeface="Arial"/>
              </a:rPr>
              <a:t>, per Albania (6) e America Latina (5);</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ISPONDENDO AD UN ANNUNCIO </a:t>
            </a:r>
            <a:r>
              <a:rPr b="0" i="1" lang="it-IT" sz="1400" spc="-1" strike="noStrike">
                <a:solidFill>
                  <a:srgbClr val="000000"/>
                </a:solidFill>
                <a:latin typeface="Arial"/>
              </a:rPr>
              <a:t>(su sfondo blu)</a:t>
            </a:r>
            <a:r>
              <a:rPr b="0" lang="it-IT" sz="1400" spc="-1" strike="noStrike">
                <a:solidFill>
                  <a:srgbClr val="000000"/>
                </a:solidFill>
                <a:latin typeface="Arial"/>
              </a:rPr>
              <a:t>, per Nordafrica (4) e Cina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TTRAVERSO CONOSCENTI ITALIANI </a:t>
            </a:r>
            <a:r>
              <a:rPr b="0" i="1" lang="it-IT" sz="1400" spc="-1" strike="noStrike">
                <a:solidFill>
                  <a:srgbClr val="000000"/>
                </a:solidFill>
                <a:latin typeface="Arial"/>
              </a:rPr>
              <a:t>(su sfondo rosso)</a:t>
            </a:r>
            <a:r>
              <a:rPr b="0" lang="it-IT" sz="1400" spc="-1" strike="noStrike">
                <a:solidFill>
                  <a:srgbClr val="000000"/>
                </a:solidFill>
                <a:latin typeface="Arial"/>
              </a:rPr>
              <a:t>, per Nordafrica (3);</a:t>
            </a:r>
            <a:endParaRPr b="0" lang="en-US" sz="14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SOLO </a:t>
            </a:r>
            <a:r>
              <a:rPr b="0" i="1" lang="it-IT" sz="1400" spc="-1" strike="noStrike">
                <a:solidFill>
                  <a:srgbClr val="000000"/>
                </a:solidFill>
                <a:latin typeface="Arial"/>
              </a:rPr>
              <a:t>(su sfondo grigio)</a:t>
            </a:r>
            <a:r>
              <a:rPr b="0" lang="it-IT" sz="1400" spc="-1" strike="noStrike">
                <a:solidFill>
                  <a:srgbClr val="000000"/>
                </a:solidFill>
                <a:latin typeface="Arial"/>
              </a:rPr>
              <a:t>, per Ex-Urss (3).</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olo 2 persone su 150 hanno ottenuto un’abitazione ATTRAVERSO UN BANDO PUBBLICO.</a:t>
            </a:r>
            <a:endParaRPr b="0" lang="en-US" sz="1400" spc="-1" strike="noStrike">
              <a:solidFill>
                <a:srgbClr val="000000"/>
              </a:solidFill>
              <a:latin typeface="Arial"/>
            </a:endParaRPr>
          </a:p>
        </p:txBody>
      </p:sp>
      <p:sp>
        <p:nvSpPr>
          <p:cNvPr id="64"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a CONDIZIONE PROFESSIONALE ATTUALE</a:t>
            </a:r>
            <a:br>
              <a:rPr sz="2400"/>
            </a:br>
            <a:r>
              <a:rPr b="1" lang="en-US" sz="2400" spc="-1" strike="noStrike">
                <a:solidFill>
                  <a:srgbClr val="000000"/>
                </a:solidFill>
                <a:latin typeface="Arial"/>
              </a:rPr>
              <a:t>Note</a:t>
            </a:r>
            <a:endParaRPr b="1" lang="en-US" sz="2400" spc="-1" strike="noStrike">
              <a:solidFill>
                <a:srgbClr val="000000"/>
              </a:solidFill>
              <a:latin typeface="Arial"/>
            </a:endParaRPr>
          </a:p>
        </p:txBody>
      </p:sp>
      <p:sp>
        <p:nvSpPr>
          <p:cNvPr id="66" name="PlaceHolder 2"/>
          <p:cNvSpPr>
            <a:spLocks noGrp="1"/>
          </p:cNvSpPr>
          <p:nvPr>
            <p:ph/>
          </p:nvPr>
        </p:nvSpPr>
        <p:spPr>
          <a:xfrm>
            <a:off x="468360" y="1196640"/>
            <a:ext cx="8229600" cy="53290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dizione e dettaglio occupazionale mostrano una spiccata uniformità tra tutti i grupp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occupati sono da 20 a 23 (su 2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lavoratori dipendenti e autonomi sono rispettivamente 17-20 e 3-4 (su 2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è una quota minima di disoccupati (1-4 su 25) e talvolta anche studenti (2 per Albania, 1 per Nordafric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Un caso a parte è quello del gruppo proveniente dall’EX-URSS, dove:</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 è piena occupazione (25 su 25), dunque anche nessun disoccupato e nemmeno student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la quasi totalità (24 su 25) sono lavoratori dipendent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settori di impiego dei vari gruppi, invece, li differenziano molto di più tra lor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dilizia (9) e turismo (4) per ALBANI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rvizi per famiglie (7) e altri servizi (5, es. babysitter e spettacolo) per AMERICA LATIN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rismo (9) e industria (5) per NORDAFRIC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iù concentrati in settori specifici son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FRICA SUBSAHARIANA, tra turismo (8), industria (5) e edilizia (4);</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INA, impiegati per circa metà nell’industria (12), quindi in commercio/artigianato (4) e turismo (4);</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prattutto, anche qui, EX-URSS, quasi esclusivamente nei servizi per famiglie (17), poi nel turismo (4).</a:t>
            </a:r>
            <a:endParaRPr b="0" lang="en-US" sz="1600" spc="-1" strike="noStrike">
              <a:solidFill>
                <a:srgbClr val="000000"/>
              </a:solidFill>
              <a:latin typeface="Arial"/>
            </a:endParaRPr>
          </a:p>
        </p:txBody>
      </p:sp>
      <p:sp>
        <p:nvSpPr>
          <p:cNvPr id="67" name=""/>
          <p:cNvSpPr/>
          <p:nvPr/>
        </p:nvSpPr>
        <p:spPr>
          <a:xfrm>
            <a:off x="6983280" y="0"/>
            <a:ext cx="2160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bio Glauco Galli - Pagina 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09:21:55Z</dcterms:created>
  <dc:creator>Andrea Pezzi</dc:creator>
  <dc:description/>
  <dc:language>en-US</dc:language>
  <cp:lastModifiedBy>Andrea Pezzi</cp:lastModifiedBy>
  <dcterms:modified xsi:type="dcterms:W3CDTF">2004-01-16T08:12:09Z</dcterms:modified>
  <cp:revision>118</cp:revision>
  <dc:subject/>
  <dc:title>1.1 CARATTERI SOCIOSTRUTTURALI Note</dc:title>
</cp:coreProperties>
</file>